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272B-0372-41CF-A603-87AC47D8F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7043D-99E0-45EF-9DA5-E933DF864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FC72-A5A7-462D-995F-49C13DC34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81E2-E1AC-420F-AA88-C9858F59D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704BC-9CEF-4880-A6B3-D364D966D9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B2D8B-2BEC-46A3-A360-1F36D6A2FA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1FFA0-2095-48AC-9DBF-420C3F27C0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73856-2B64-40DA-BCC8-33E8816141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26E2-E29E-4726-8306-9395B991F5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57787-A11B-4E25-BAAC-24BD86F8A2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CEA5-89F4-47A9-A231-3A34AE0292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83EF-4B5C-4FA1-B4BF-F331928BF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89E61-31D0-484B-AFFC-EAA8614393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75F72-84B6-41E9-8A6D-207B32928D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8FFCC-3DD5-4AFC-9191-A8C8E15DC2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14687-A937-4D0A-9E3A-FC678A5F28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17437-4889-4672-8DFF-0861F5096E6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41A-5B6A-4A79-B7AF-85388FCEA2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5D8-08AF-409F-9EF5-7189AC310C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47A8-1BD8-41AC-8D35-B909CBC24B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3B2-6ABD-4CBD-BE8C-586C5AA3D2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0D5-1E03-41D6-AD89-1DD91658C8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0536-4AEB-4004-981D-043A3949F0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08B-1465-410C-A5A0-06E9F14FF1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232-ADA7-46FC-8C42-C8DF1E7D9A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CDD-32CD-424E-A567-0ECC2A8790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D61-8664-49AA-BB17-D57D64E78C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E6A9-71C5-4D36-9979-133205DE5A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20B-B8C3-4675-AFCE-69C03ED57D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46B1-370D-4568-8507-49998A092DB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499A3-EA32-4689-B9AA-C14A85B8325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FB2CC-C14C-45D3-99EE-5002E6C3B4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29AD2-3196-4B14-B866-7451A4345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9C3C-EC4C-41BD-9536-D61C018E82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47967-257C-4351-9235-B43FFD631AA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889C5-F904-4354-8956-05CC4BAFD4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80DC8-74F0-4A54-B60C-125F0A17FF2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2E050-C7A0-4EF7-99F2-4594C5076D3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90D83-E76E-4489-8510-E9E2815111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138F9-0C90-4D0E-8068-0A3E2C8044F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08F60-3D42-4BC4-BC69-F5943E4532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A4D5E-D482-4095-9830-159180C31B5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3CD74-35C2-444D-9D35-7F2891D8A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A89A-058E-4536-9692-EDBAF6D3C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7B4C-04D5-42FF-94B3-2A783B0CE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7111-B607-4524-B74D-054A650BA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62AD-D966-4273-BFEC-C1A77FC97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F1ED-91B9-4699-BF99-45D963FE4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22CC-FFAE-4DBD-9F72-01439F653FE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00400" y="3733920"/>
            <a:ext cx="5943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6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6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6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文鼎CS中黑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152280" y="65797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49CB-3852-4698-8652-C3565D97398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文鼎CS中黑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5E4C-6FA4-4570-9974-9E3F62CCEF2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Num" idx="4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7F76-3268-4361-9E4B-AE16AAD0993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4191120"/>
            <a:ext cx="6019920" cy="257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00360" y="2349360"/>
            <a:ext cx="6400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浙江省计算机等级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监考培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37195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宋体"/>
                <a:ea typeface="黑体"/>
              </a:rPr>
              <a:t>浙江科技学院 教务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A140-8A0A-4AA5-8320-CA2FB8BE6F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16360" y="1916280"/>
            <a:ext cx="331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effectLst>
                  <a:outerShdw dist="63504" dir="3183908" blurRad="0" rotWithShape="0">
                    <a:srgbClr val="808080">
                      <a:alpha val="50000"/>
                    </a:srgbClr>
                  </a:outerShdw>
                </a:effectLst>
                <a:latin typeface="黑体"/>
              </a:rPr>
              <a:t>谢谢！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solidFill>
                <a:srgbClr val="ff6600"/>
              </a:solidFill>
              <a:effectLst>
                <a:outerShdw dist="63504" dir="3183908" blurRad="0" rotWithShape="0">
                  <a:srgbClr val="808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8188A-C9E1-4F9D-8E87-280275406A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9930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培训内容</a:t>
            </a:r>
            <a:endParaRPr b="1" lang="en-US" sz="28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65" name=""/>
          <p:cNvSpPr/>
          <p:nvPr/>
        </p:nvSpPr>
        <p:spPr>
          <a:xfrm>
            <a:off x="399960" y="115884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一、时间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5"/>
          <p:cNvSpPr/>
          <p:nvPr/>
        </p:nvSpPr>
        <p:spPr>
          <a:xfrm>
            <a:off x="324000" y="184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960" y="195120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二、领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5"/>
          <p:cNvSpPr/>
          <p:nvPr/>
        </p:nvSpPr>
        <p:spPr>
          <a:xfrm>
            <a:off x="324000" y="2637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960" y="396720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四、监考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324000" y="4653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960" y="490212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五、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5"/>
          <p:cNvSpPr/>
          <p:nvPr/>
        </p:nvSpPr>
        <p:spPr>
          <a:xfrm>
            <a:off x="324000" y="558792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960" y="583884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六、偶发事件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5"/>
          <p:cNvSpPr/>
          <p:nvPr/>
        </p:nvSpPr>
        <p:spPr>
          <a:xfrm>
            <a:off x="324000" y="652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8520" y="2924280"/>
            <a:ext cx="76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三、考场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322200" y="361008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F3220-2E2B-474A-AE8B-0FC450F24F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时间安排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981000"/>
            <a:ext cx="838224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考试时间：理论考（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4.25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上午）；上机考（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4.25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～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4.26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监考班车时间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学院路</a:t>
            </a:r>
            <a:r>
              <a:rPr b="0" lang="en-US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小和山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            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学院路</a:t>
            </a:r>
            <a:r>
              <a:rPr b="0" lang="zh-CN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安吉 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翠苑新村</a:t>
            </a:r>
            <a:r>
              <a:rPr b="0" lang="zh-CN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小和山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         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小和山</a:t>
            </a:r>
            <a:r>
              <a:rPr b="0" lang="zh-CN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安吉   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小和山</a:t>
            </a:r>
            <a:r>
              <a:rPr b="0" lang="zh-CN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学院路：</a:t>
            </a: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600000"/>
                </a:solidFill>
                <a:latin typeface="Arial"/>
              </a:rPr>
              <a:t>号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8:40(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上机考）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安吉</a:t>
            </a:r>
            <a:r>
              <a:rPr b="0" lang="zh-CN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小和山： </a:t>
            </a: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600000"/>
                </a:solidFill>
                <a:latin typeface="Arial"/>
              </a:rPr>
              <a:t>号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2:00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小和山</a:t>
            </a:r>
            <a:r>
              <a:rPr b="0" lang="zh-CN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安吉：</a:t>
            </a: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26</a:t>
            </a:r>
            <a:r>
              <a:rPr b="1" lang="zh-CN" sz="2000" spc="-1" strike="noStrike">
                <a:solidFill>
                  <a:srgbClr val="600000"/>
                </a:solidFill>
                <a:latin typeface="Arial"/>
              </a:rPr>
              <a:t>号：</a:t>
            </a:r>
            <a:r>
              <a:rPr b="1" lang="en-US" sz="2400" spc="-1" strike="noStrike">
                <a:solidFill>
                  <a:srgbClr val="600000"/>
                </a:solidFill>
                <a:latin typeface="Arial"/>
              </a:rPr>
              <a:t>6:30</a:t>
            </a:r>
            <a:r>
              <a:rPr b="1" lang="zh-CN" sz="2000" spc="-1" strike="noStrike">
                <a:solidFill>
                  <a:srgbClr val="6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6:5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16:4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（上机考）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理论考领卷时间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（安吉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8:2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布置考场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前监考教师进入考场布置考场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考试铃声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考生入场铃声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开始考试铃声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考试结束铃声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（二级）；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（三级）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考试时间统一以铃声为准，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45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铃声时对表，按照时间进度安排工作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BEA4B-71B0-46DF-B370-81267DD24B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领卷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36748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8:1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报到，开始领卷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报到地点：主考办公室：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A2-24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（教师休息室）。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每个考场的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黑体"/>
              </a:rPr>
              <a:t>两位监考人员到齐后同时领取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到达报到地点，并签到才算到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个工作组，到主考办公室下设的考场所对应的工作组领卷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试题册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答题纸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考务袋（内有：监考证、考场号、考生名单、考场记录单、胶水、小刀等）；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回卷：试卷回到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A2-240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（安吉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20#101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阶梯教室）领卷的工作组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</a:rPr>
              <a:t>检查袋封上的考场号与自己的考场是否相符，检查袋口是否完好，并在袋上签名。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20CC-FB59-46DC-9FE4-C6B7DFB14B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考场布置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8:2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进入考场开始布置考场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在考场门口贴好考场号，插在教室门口的塑料牌中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检查是否彻底清场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考场板书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座位安排表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考场规则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考试时间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考试科目。 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根据座位安排表在考试座位上方贴上座位号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60AF0-8680-4310-A715-5D57528BF2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监考要求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考生入场检查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45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分铃响之后放行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先检查核对证件再入场（证件不全不得入场）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先把带入考场的无关物品（包、书本、纸张、计算器、手机等）放到讲台上后再入座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检查准考证号是否与座位号相符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检查准考证与学生证或身份证是否相符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入座后，考生在考生名册备注栏中签名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发现问题及时纠正或报告主考 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试卷当众启封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宣布考场纪律及考试注意事项 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全文宣读考生须知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4EA4A-591E-454F-9963-A4E153E1AF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注意事项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208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关于装订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必须经工作组或督查组当面清点后方能开始装订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装订要求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答题纸按序号（包括缺考）从小到大排列，理齐。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沿装订线下钉，等距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颗钉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以考生信息不外漏为标准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关于证件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必须在考生进场的时候检验证件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有效考试证件：准考证、身份证（或学生证）两证齐全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没有证件不允许进入考场，证件忘带的及时要求学生委托他人在考试结束前送到考场，否则考试无效。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考试结束前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分钟提醒考生时间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上机考：学生提出的问题应当众回答，不要动手帮学生改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AB4DC-8E60-4D8B-8629-6123984527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偶发事件处理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作弊处理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收集违纪材料及证据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学生本人在违纪材料上签字，非纸质材料先行收缴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立即通过巡考、考务人员等联系主考办公室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监考教师填写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违规考生情况记录表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违规处理告知书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，对于违规的关键事实详细描述，两位监考教师签字、学生签字。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其他偶发事件通过巡考、考务人员等通知主考办公室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FDC9E-FD40-4670-A1C1-BA1273A441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特别提醒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按时报到（小和山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10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；安吉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8:20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认真阅读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监考人员须知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先清理考场，检查抽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严格学生进场检查程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要求考场名单备注中学生本人签名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第一次打铃 （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45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）统一时间调整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当众全文宣读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考场规则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，试卷当众启封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装订前，答题卡务必经工作组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/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督查组当面清点后正确封装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一前一后、一站一坐、一动一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偶发事件及时与巡视员及主考办联系，规范处理程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9B57E-2EDA-470D-BF67-F6A04EC65B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1:05:13Z</dcterms:created>
  <dc:creator>LCS</dc:creator>
  <dc:description/>
  <dc:language>en-US</dc:language>
  <cp:lastModifiedBy>微软用户</cp:lastModifiedBy>
  <dcterms:modified xsi:type="dcterms:W3CDTF">2015-04-13T01:20:36Z</dcterms:modified>
  <cp:revision>1510</cp:revision>
  <dc:subject/>
  <dc:title>jwc</dc:title>
</cp:coreProperties>
</file>