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D5F7-A908-4A5B-827B-45CA6ECB8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3D61-C082-4738-A468-BFF4CB133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097B-0FD9-49F6-A5BD-B34DB612B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2D66-A89C-4E7C-AD53-C23683759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D3A6-0CE5-4732-BF10-C59C2595C9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70B1-81BE-4ABE-B8F7-EA3E8789E5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95E4-684C-4EC5-8F08-37979722E6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93DF-3A3E-44D7-B836-FEAA24CDC4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C1D4A-0F04-4D30-A56A-6E6B9BC6F8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E172-4203-490B-A0FA-14F59E4622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191B-F437-403A-9743-511E67DEFF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E5EC-2347-48C5-8855-A87C9A4B9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8EA9-5CD0-4BEC-A373-F8E7FA473D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64DB-88B2-446B-9E18-1E42CC2FCE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0828-127A-4850-9420-A3CBBC1229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1E9C-4156-4349-9B55-BCE4175FD0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E8B79-E1CA-474E-9668-211C1A94BF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278-E385-4D58-A995-67FE7D8594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CF5-8B47-4E52-A4CF-2532AA551C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D60-F520-426E-A84B-7188E75A98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451-FB36-4CA8-828E-96593AC27B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D77-564E-45E1-94A2-541A5FE32A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DB48-8A18-4171-B936-97F5A70970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79C-CD7C-4FA2-ABBA-C4AD347354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652-A0F9-4696-BD0A-A1B1444546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DE2-2839-4BF4-AA7C-C766811AD9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C5A-F467-46AC-8664-7AA15D2B9C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9E6-A376-4B9C-B0A2-76E78A7420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1DD-EB3F-4198-9915-0D43341EFD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613-32F7-4FD9-828D-58622D4AE4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B94DD-0A6E-465E-8DF7-B0566B069D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6E9C8-CC77-44E7-B44A-8D001F82B5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D0248-8319-46D8-B448-B13566E35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7DA6-DF07-47AD-BBD1-EAC9DD66FD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63B8B-EDD7-4F99-96C7-507D29717E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B8B8E-FC3D-46AD-83B9-202C65EA71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294D3-790B-48D1-B98C-2E8D6B4638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7EDF9-EC29-4576-A5E6-F32866B7EA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A9197-C2D8-4EFD-94F7-D954F865A2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6C838-3E93-4902-8C7A-963D6A5999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66720-1939-4108-AA27-63B0316DF3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CF276-C447-4C45-8560-15CD65E13B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AB06A-70CD-437A-B0BC-F30BBC630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B3CF-1CEB-4B7F-A52E-8E82EC5EA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A162-22B8-45B9-AFA5-86BBB49F2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959F-CB57-4C4B-9FB1-AA8E5B188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62AF-1BAB-43E3-8DE4-B0ADA9F08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7435-AD00-49A1-9914-714C48F62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119F-B86F-4917-935D-6AD76E39036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6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6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6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152280" y="65797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7CB6-8ABB-49E7-9B06-B1D62D883CA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F9FC-19BC-4F38-BCA1-E42D7A1FA40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Num" idx="4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55E-0345-4BBB-ACB3-220F4FA2854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浙江省计算机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3F6E-751A-4D32-8AC2-6A9AEAEDB2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16360" y="1916280"/>
            <a:ext cx="33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63504" dir="3183908" blurRad="0" rotWithShape="0">
                    <a:srgbClr val="808080">
                      <a:alpha val="50000"/>
                    </a:srgbClr>
                  </a:outerShdw>
                </a:effectLst>
                <a:latin typeface="黑体"/>
              </a:rPr>
              <a:t>谢谢！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63504" dir="3183908" blurRad="0" rotWithShape="0">
                  <a:srgbClr val="808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684E8-305F-433A-BE2D-4AF17D54FE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1" lang="en-US" sz="28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65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9C09-B3B5-4E81-8A5D-DA2AFD9D1A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时间安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8224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时间：理论考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1.19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上午）；上机考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1.19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全天）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监考班车时间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学院路</a:t>
            </a:r>
            <a:r>
              <a:rPr b="0" lang="en-US" sz="24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翠苑新村</a:t>
            </a:r>
            <a:r>
              <a:rPr b="0" lang="zh-CN" sz="24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小和山</a:t>
            </a:r>
            <a:r>
              <a:rPr b="0" lang="zh-CN" sz="24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学院路：中午不安排班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理论考领卷时间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布置考场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前监考教师进入考场布置考场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铃声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考生入场铃声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开始考试铃声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考试结束铃声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（二级）；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0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（三级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时间统一以铃声为准，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45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铃声时对表，按照时间进度安排工作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F2F2-0933-46D4-952E-578D60778D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领卷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:1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，开始领卷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地点：主考办公室：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A2-24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（教师休息室）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每个考场的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黑体"/>
              </a:rPr>
              <a:t>两位监考人员到齐后同时领取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到达报到地点，并签到才算到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个工作组，到主考办公室下设的考场所对应的工作组领卷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试题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题纸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考务袋（内有：监考证、考场号、考生名单、考场记录单、胶水、小刀等）；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回卷：试卷回到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A2-24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领卷的工作组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</a:rPr>
              <a:t>检查袋封上的考场号与自己的考场是否相符，检查袋口是否完好，并在袋上签名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5E891-EAF0-477F-8B77-B61547CB73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考场布置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8:2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进入考场开始布置考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在考场门口贴好考场号，插在教室门口的塑料牌中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检查是否彻底清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场板书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座位安排表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场规则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时间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科目。 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根据座位安排表在考试座位上方贴上座位号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F0DE1-A32C-43AB-AC69-617D34A713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监考要求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生入场检查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分铃响之后放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检查核对证件再入场（证件不全不得入场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把带入考场的无关物品（包、书本、纸张、计算器、手机等）放到讲台上后再入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号是否与座位号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与学生证或身份证是否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入座后，考生在考生名册备注栏中签名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发现问题及时纠正或报告主考 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试卷当众启封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宣布考场纪律及考试注意事项 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全文宣读考生须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C624-7B44-4381-BB2C-945F0F65B9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注意事项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装订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经工作组或督查组当面清点后方能开始装订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装订要求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答题纸按序号（包括缺考）从小到大排列，理齐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沿装订线下钉，等距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颗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以考生信息不外漏为标准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证件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在考生进场的时候检验证件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有效考试证件：准考证、身份证（或学生证）两证齐全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没有证件不允许进入考场，证件忘带的及时要求学生委托他人在考试结束前送到考场，否则考试无效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结束前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分钟提醒考生时间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上机考：学生提出的问题应当众回答，不要动手帮学生改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3E05-BADE-4648-8636-A7A68082F8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偶发事件处理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作弊处理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监考教师填写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考生情况记录表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处理告知书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，对于违规的关键事实详细描述，两位监考教师签字、学生签字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其他偶发事件通过巡考、考务人员等通知主考办公室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0211-5784-4B51-8064-6E55B82A36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特别提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按时报到（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10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认真阅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监考人员须知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先清理考场，检查抽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严格学生进场检查程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要求考场名单备注中学生本人签名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第一次打铃 （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统一时间调整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当众全文宣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考场规则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，试卷当众启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装订前，答题卡务必经工作组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/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督查组当面清点后正确封装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一前一后、一站一坐、一动一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偶发事件及时与巡视员及主考办联系，规范处理程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F324-E723-4108-9F3E-C321B4962C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6-10-20T01:31:18Z</dcterms:modified>
  <cp:revision>1507</cp:revision>
  <dc:subject/>
  <dc:title>jwc</dc:title>
</cp:coreProperties>
</file>