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975F-5F2D-4716-853A-665005E3A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ECAA-8DBE-4F8A-BE57-DBACBB8B6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1EB6-8018-4FA9-B89E-0CF54AE8B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DF0A-31AC-4499-BDA7-8BB3075B6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257C-2CA1-4473-AD4D-15F1413A0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AFFA-8D5B-45DB-B0D2-6F1C033445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EACA-21A9-4DB7-8B77-DCF2F21DE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26AC-CCC3-469C-8528-BC72FC3562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211A-DE8A-4A44-AC63-5C0D595B47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0CB1-9A9F-49F6-8150-6E036F4BC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0891-A267-47D7-BA7C-6B51325DD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1A6B-277C-41D3-88FC-5A9FB95AF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816B-8C3E-42F9-81C7-A9B29D4E96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BEC7-D9B5-48E2-B64E-E60DAC6DD7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3599-586C-496C-BC95-23DD4658F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ECC7-0360-47A2-ACC1-77A18B13B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B44A-5E13-43B0-8D2D-98DC1412D3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DE7-E0B1-4532-8E61-77935F41E4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489-3D37-4A39-8626-59ED1F1880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8F7-BF59-4762-9470-ADCDBEFD40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A30-8E09-402D-9806-53F2926A5E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9BC-C581-403C-BE0C-26E448919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B44A-D7E5-4CBF-A732-C0FD5AB962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7BB-5E5E-45DB-B4D6-F5BA7C9117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043-ED07-4579-AE3B-5A5A9BA5C6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ADC-62E6-4557-964C-9A8B58AA9B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37A-4840-4AAC-9D5A-8A9C19159E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195-C2B3-49FB-89B6-54C193AF67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46E-07C2-4DD2-8694-D15B88AE71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C5D-2ABA-45B1-A0A9-9D34D887FE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BB1E3-31D1-4299-90D7-2C9F475719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FF26C-5847-4B36-B711-1C993D8A8E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25CA6-56DB-4929-A85F-2D6CF218D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B6F4-D246-4288-AFF4-24B5A8AE7B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CC556-2AF2-4244-A608-631D2C3C47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550F2-014C-4456-AE64-A64D0B3AED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02600-7C68-40BE-BFE4-0FA58755DD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8AC8D-20CE-403C-B712-0B8F2B842A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FC4F5-28DE-4463-9CB6-1242D21C91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54134-6E3E-4F54-92EE-31146CE152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B3CDC-DD7D-453F-B521-77D1A70F50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194E8-4ADA-4001-BF31-7CCBE4FE02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D14F7-A69A-4FAA-B188-3FFFF5F88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6199-D7A7-47D8-93D3-23CE0D788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5975-126E-44A0-8D15-C73EF7057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FCB1-609D-476D-A09F-50242A0C5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CC11-7F61-4D0A-99A4-0ADD1567C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FDDB-6494-41B2-97B0-F90E0C9A0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955B-9AC2-4A2C-B79F-DD7C3E125E7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3E84-7498-451D-A183-D3DE2E80D04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5CB5-7609-42BE-94D8-C865182709D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785A-57C1-4DD5-A4DA-D6E1ADB57F6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9031-9FB4-4CF1-9D02-2C19374E7E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13621-9475-4F77-84F4-D09F235EF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DF59-AF53-42A7-B20A-4BE49F224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7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：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</a:rPr>
              <a:t>26</a:t>
            </a:r>
            <a:r>
              <a:rPr b="1" lang="zh-CN" sz="18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6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600000"/>
                </a:solidFill>
                <a:latin typeface="Arial"/>
              </a:rPr>
              <a:t>（上机考）</a:t>
            </a:r>
            <a:endParaRPr b="0" lang="en-US" sz="1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D18F-EED5-46E8-927C-CF4438194C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E40B-1278-4269-B6F2-D044DDD1B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9ED7-CE87-4C43-9E6C-0D6FE189A9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BDAF-0A61-4087-8FD5-FA86749E23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0879-8101-4F2F-BCDD-8C41888AFD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2346-C0DE-4A93-BA3A-053747185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818A-0B4C-4CAA-B2F2-BE5D0842F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4-04-03T00:47:38Z</dcterms:modified>
  <cp:revision>1503</cp:revision>
  <dc:subject/>
  <dc:title>jwc</dc:title>
</cp:coreProperties>
</file>