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58B9-53FE-481A-AFB9-6496E5ACF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3C0C-35F3-4962-8E7D-B3718D0D5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D496-F40C-4E9B-9F7E-99AA058F2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18A4-6B2B-4FDA-84B7-4E1945A8F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3B6DF-30D0-4111-89C2-239E369D4F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83B8-362E-4CF8-987B-F887E2B4D9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BCC7-1F32-408E-BA5B-B6D6962ECA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D6AA-6C43-484D-B389-6B68522C84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C35C-9DF9-41F4-97A9-4AC898033A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4DF8-7988-467C-967A-11BDA8ED4E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8EC5-3164-4417-B640-CB068BC5E4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F2F0-5C2C-4BB9-9A9F-4E0ECF49F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F31A-9280-441D-8E3C-FB38929716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127E-64BC-445D-AB17-C319E715A5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CAF8-A354-48D7-B8CE-00AD0CDDE4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2EA3-5AD9-4B9E-A8CA-B4863A05BC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DDE1-4282-4C72-AE26-8A7E79DEEE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005-019B-4244-BFE7-A83DAD40FA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967-EEA8-406D-8671-4AA20AE244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FFC-0977-47D2-9075-EB44B66A46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71B-8EF7-410B-B06D-2F52072573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BB0-1544-40C3-BBD6-141C78EFF5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5800-7AB9-45AE-85C3-DE2403EC07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6A0-08DF-4640-A221-21ABDCDD7D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20E-B10A-4AAC-8812-18A972011A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62E-93EE-4FFD-A7F4-392F5291E8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EE3-8B87-444F-8C53-9D294C4420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7EE-962A-456F-9225-0B8DF495B8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F2D-8E82-4863-95C2-AFD64BB116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150-A2FA-45D7-AF39-E02E9AECBE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30AFF-8404-4FAC-86A9-3D07DBFFD7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C60F9-71C2-42B7-A8CB-182418A863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C3C08-928C-4FA8-85F5-7F3FD8197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A78B-C228-407C-896B-B0310BC4BC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DDA22-9B1D-40D5-9745-3AA7044987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E6F80-9E63-45F6-8301-1C5CEC45E8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C2026-ABB8-4E4B-A15F-CEAD06F956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15687-DD0C-4F93-8CE2-9C3EC8FDA2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9ED92-8840-42DB-AFD4-3DAFC5B2AD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C9526-0515-4379-8F06-21839105D5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3C087-726D-4D16-93F0-6B0599CEF8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D9D52-5426-40FA-BE95-123AE21C00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14E87-7B77-4478-8A91-8E234C149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6225-C048-4862-9FEE-47E7E6C12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94C1-F96A-49B3-85D4-E43194D45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CC9D-CBDB-453C-B66F-D6A9ED679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BC0F-B4E0-4445-9138-B0D5ABB69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1C93-432D-4B39-B3A1-2DC742A2E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A6FA-9959-44F3-A54B-3E603DDD7EE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6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6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6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152280" y="6579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1F52-08DB-408B-BE1A-0644BB1FF6F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B198-4B25-4FDC-AA7E-9C6FB592612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Num" idx="4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211E-E2C2-430F-80DB-E118344C1E1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浙江省计算机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9925-67DF-45BE-89CE-8A1652C044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16360" y="1916280"/>
            <a:ext cx="33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63504" dir="3183908" blurRad="0" rotWithShape="0">
                    <a:srgbClr val="808080">
                      <a:alpha val="50000"/>
                    </a:srgbClr>
                  </a:outerShdw>
                </a:effectLst>
                <a:latin typeface="黑体"/>
              </a:rPr>
              <a:t>谢谢！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63504" dir="3183908" blurRad="0" rotWithShape="0">
                  <a:srgbClr val="808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23E02-E60B-4FCD-89E6-F1A5E65DF4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1" lang="en-US" sz="28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65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071F-2E4E-469E-95D5-4EF63E5B9A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时间安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8224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时间：理论考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6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上午）；上机考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6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7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监考班车时间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</a:t>
            </a:r>
            <a:r>
              <a:rPr b="0" lang="en-US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翠苑新村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：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0000"/>
                </a:solidFill>
                <a:latin typeface="Arial"/>
              </a:rPr>
              <a:t>26</a:t>
            </a:r>
            <a:r>
              <a:rPr b="1" lang="zh-CN" sz="18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r>
              <a:rPr b="0" lang="zh-CN" sz="1800" spc="-1" strike="noStrike">
                <a:solidFill>
                  <a:srgbClr val="600000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0000"/>
                </a:solidFill>
                <a:latin typeface="Arial"/>
              </a:rPr>
              <a:t>27</a:t>
            </a:r>
            <a:r>
              <a:rPr b="1" lang="zh-CN" sz="18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600000"/>
                </a:solidFill>
                <a:latin typeface="Arial"/>
              </a:rPr>
              <a:t>（上机考）</a:t>
            </a:r>
            <a:endParaRPr b="0" lang="en-US" sz="18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理论考领卷时间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布置考场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前监考教师进入考场布置考场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铃声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考生入场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开始考试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考试结束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二级）；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三级）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时间统一以铃声为准，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铃声时对表，按照时间进度安排工作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7F36-AEFB-427B-9C2C-345BF9D336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领卷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:1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，开始领卷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地点：主考办公室：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A2-24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（教师休息室）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每个考场的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黑体"/>
              </a:rPr>
              <a:t>两位监考人员到齐后同时领取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到达报到地点，并签到才算到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个工作组，到主考办公室下设的考场所对应的工作组领卷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试题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题纸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考务袋（内有：监考证、考场号、考生名单、考场记录单、胶水、小刀等）；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回卷：试卷回到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A2-24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领卷的工作组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</a:rPr>
              <a:t>检查袋封上的考场号与自己的考场是否相符，检查袋口是否完好，并在袋上签名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04FF-0B74-4AAA-A7BC-152329E249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考场布置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8:2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进入考场开始布置考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在考场门口贴好考场号，插在教室门口的塑料牌中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检查是否彻底清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场板书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座位安排表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场规则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时间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科目。 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根据座位安排表在考试座位上方贴上座位号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0025-EBB8-4050-BD3F-65297B5966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监考要求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生入场检查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分铃响之后放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检查核对证件再入场（证件不全不得入场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把带入考场的无关物品（包、书本、纸张、计算器、手机等）放到讲台上后再入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号是否与座位号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与学生证或身份证是否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入座后，考生在考生名册备注栏中签名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发现问题及时纠正或报告主考 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试卷当众启封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宣布考场纪律及考试注意事项 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全文宣读考生须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6A0D2-5DB3-4EE3-8188-2F150CACC6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注意事项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装订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经工作组或督查组当面清点后方能开始装订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装订要求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答题纸按序号（包括缺考）从小到大排列，理齐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沿装订线下钉，等距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颗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以考生信息不外漏为标准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证件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在考生进场的时候检验证件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有效考试证件：准考证、身份证（或学生证）两证齐全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没有证件不允许进入考场，证件忘带的及时要求学生委托他人在考试结束前送到考场，否则考试无效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结束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分钟提醒考生时间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上机考：学生提出的问题应当众回答，不要动手帮学生改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BA10-E33F-4A8C-847F-9E34130813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偶发事件处理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作弊处理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监考教师填写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考生情况记录表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处理告知书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，对于违规的关键事实详细描述，两位监考教师签字、学生签字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其他偶发事件通过巡考、考务人员等通知主考办公室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3D6C6-EFBD-4015-814A-3A6DFDA2BF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特别提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按时报到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10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认真阅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监考人员须知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先清理考场，检查抽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严格学生进场检查程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要求考场名单备注中学生本人签名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第一次打铃 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统一时间调整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当众全文宣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考场规则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，试卷当众启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装订前，答题卡务必经工作组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/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督查组当面清点后正确封装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一前一后、一站一坐、一动一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偶发事件及时与巡视员及主考办联系，规范处理程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7832-E12A-49FB-B4B9-B0E49BD263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4-04-03T00:47:38Z</dcterms:modified>
  <cp:revision>1503</cp:revision>
  <dc:subject/>
  <dc:title>jwc</dc:title>
</cp:coreProperties>
</file>