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7.jpeg" ContentType="image/jpeg"/>
  <Override PartName="/ppt/media/image28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47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48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12.jpeg" ContentType="image/jpe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3ABA-CBB0-4A19-A9BD-7ADC6DAFD44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E95A-388F-4D76-8D0B-DEA12EE8243D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2288-A10D-460E-B5D9-1C152DF92B94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9248-B5DA-4269-B326-4ED5DAC3ED71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1CD2-74ED-418B-9ADE-59BA57245856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520E-A384-43F0-A264-08CAFC0ECA3B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4B37-0193-44AB-AC33-E82DDB1C0773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原来比较，就是多了一个试题册背面的信息填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D0C-639A-4A67-A96E-3495BFC88656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DDCA-3E80-4BE8-9C5D-68B0E3BF6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9F52-7AAA-42EE-B79A-EB7944271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BC75-E91F-470D-AA7D-0FBE44C19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94A6-D4B0-40AB-93AC-D7196BDB2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385C-8DCF-43B5-ABBC-F03D76E0B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336F-1649-4F59-9B68-E5915F0810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BC8E-8D85-4DBC-BE51-94C20C268E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14B4-D25A-444E-9E05-018375FFD2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BA49-C132-420D-913A-E94562119E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952D-F9DF-4581-AC32-22DF25CABF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B8F8-0560-479B-B665-B3354AA2A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A493-18A6-43A4-B8CF-4729C18EC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3050-CF06-4D35-8584-3C07A8F9F6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F76F-D2A3-4FAD-B029-6CDAE07C0A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164B-56D7-4818-BACD-CB752E906D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A6EE-46E7-4C6C-A8E4-8606D5ACA4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039A-2A1C-47C9-ADA8-18FFE9C920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0C527-49BB-42CC-9104-B04B80FC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3C06F-7EB4-4944-ABC5-035B27F7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A14BF-9F31-45B8-911C-946684DF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7C125-BCF8-47BA-B168-ACCAF316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DD20A-6AE3-4C98-ADAD-F60A4A99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5B5D-7214-47FB-8217-2DF604B50D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1C854-2D72-46DA-AC1E-4B4BAF18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7F943-3359-4282-86ED-5CF9B9FD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F52B5-B61D-4828-90AB-B5280FA7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F5C16-E387-4EA5-B837-6AD1D81C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EE12-0F68-49D4-9AA7-A0083604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BAD34-F225-4F90-93A5-3A2D5400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68A61-B2BB-47D0-9AF8-DA6114E9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57379-A1BE-43BF-B82A-FDA78168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68185-DEF6-4A3A-B619-1DA3E861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38C5F-ECE5-4212-89C6-A56B5453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74AF-AE02-4809-A8BF-A220DF8550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4AE18-F83A-4476-BB25-C48B42D5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024CE-7B79-42D7-8299-78B9366C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23F56-6219-4C94-A57C-0CD8A860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753C6-DDB0-4211-BA23-4491131F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B2F5D-0E28-4062-B100-F22E309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5BB38-25CF-4055-B31A-0107363C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52EF2-C8C6-461A-B522-25428840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298C5-1489-4AE1-99DB-37A91366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9CFFF-B1B5-4478-8832-F46050B0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7944B-654E-4D56-B6D9-54354775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B876-9433-4463-B507-781184880E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E8454-402E-44EA-BFD6-56D1C13C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32001-0C9C-49CD-838E-CEA0BAFF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74A3B-E230-46D4-916F-4AD637F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3FE58-6EE6-4D53-B5F5-44031961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9BC9AC-FD45-4B4D-9DE3-7C7382BD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BBFB1-6CBF-4B50-8B23-2DFE6342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5D40D-56BC-4700-98F3-AC252682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B61488-63E5-4706-AEB3-0CFD794C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1D49F-5955-4E3D-AF5D-3CA18E11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69653-9714-4177-9A09-7FC70483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D480-73C8-468B-96EF-C79683D854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2A4E3-7504-40FD-A52A-62B9520E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6A64-3960-4EC5-B581-657FF2F22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0AED-0B29-457F-B88B-81965A915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17F5-EF41-455B-AD4C-F9D200777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9D0-C8DC-4823-B1A2-EBA3379DD90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8D9-FFE1-4780-91D2-CD2FAE5918A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1A2F-16D5-4D75-BBE0-64A315589F9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C7FF-5D46-4ABD-9A94-0263BB72389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CE16-42DF-4456-A55A-1B232B26D7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2823;&#23398;&#33521;&#35821;&#22235;&#32423;&#32771;&#35797;&#25805;&#20316;&#35268;&#31243;.doc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7993;&#27743;&#30465;&#22823;&#23398;&#33521;&#35821;&#19977;&#32423;&#30417;&#32771;&#25805;&#20316;&#35268;&#31243;.doc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全国大学外语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FBAF-AA8B-4D47-AAF3-0D26A2CE76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关于证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必须在考生进场的时候检验证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有效考试证件：准考证、身份证（或学生证）两证齐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没有证件不允许进入考场，证件忘带的及时要求学生去取回或委托他人在考试开始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分钟内送到考场，否则考试无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考试结束前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分钟提醒考生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关于装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答题卡必须经工作组或督查组当面清点后方能开始装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装订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答题卡按序号（包括缺考）从小到大排列，理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四六级不装订，用提供的封条封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三级需装订，沿装订线下钉，等距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颗钉，以考生信息不外漏为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2A61D-769C-4F19-943F-76A150BE69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偶发事件处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作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监考教师填写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考生情况记录表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处理告知书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，对于违规的关键事实详细描述，要求考生签字、两位监考教师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其他偶发事件立即通过巡考、考务人员等通知主考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B0D73-758C-423C-AEDA-F814E34D06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32000" y="1916280"/>
            <a:ext cx="6048360" cy="194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全国大学英语</a:t>
            </a:r>
            <a:br>
              <a:rPr sz="5200"/>
            </a:br>
            <a:r>
              <a:rPr b="0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四级，六级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rot="838200">
            <a:off x="5148000" y="4653000"/>
            <a:ext cx="3827520" cy="136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FCB9C-A8A2-4567-95EA-4CB5D142979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场座位编排及分卷要求（四级与六级相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700280"/>
            <a:ext cx="144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1484280"/>
            <a:ext cx="2017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形格局来编排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注意每排人数。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6480000"/>
            <a:ext cx="3095640" cy="40500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B8B69-C9ED-4256-9041-423E40C33D0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97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级监考流程（上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557360"/>
            <a:ext cx="3384360" cy="15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听力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3573360"/>
            <a:ext cx="244944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24000" y="3573360"/>
            <a:ext cx="3527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5400000">
            <a:off x="7560360" y="2815920"/>
            <a:ext cx="5050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941720"/>
            <a:ext cx="777708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453360"/>
            <a:ext cx="3384720" cy="40464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0F5CE-75CF-4C78-8780-87C3353A523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1557360"/>
            <a:ext cx="3419280" cy="158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3573360"/>
            <a:ext cx="2521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 rot="5400000">
            <a:off x="7487280" y="2888280"/>
            <a:ext cx="5047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39280" y="834840"/>
            <a:ext cx="597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级监考流程（下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3573360"/>
            <a:ext cx="338436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4941720"/>
            <a:ext cx="777708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E49DB-DBAC-4ECB-A6B4-284D0C175DD9}" type="slidenum">
              <a:t>15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1600200"/>
            <a:ext cx="3394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收卷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249228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按座位号小号在上，大号在下的顺序（包括缺考考生的答题卡与试题册，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涂写最后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位数，缺考考生的条形码不用揭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整理答题卡。清点无误，签字后上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/>
          </p:cNvPr>
          <p:cNvSpPr/>
          <p:nvPr/>
        </p:nvSpPr>
        <p:spPr>
          <a:xfrm>
            <a:off x="1835280" y="4365720"/>
            <a:ext cx="65530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详细见全国大学英语四，六级考试监考须知及流程（纸质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384560" cy="2206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90D04-90A1-4B37-8660-E19A7BA26F2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19280" y="1844640"/>
            <a:ext cx="5472000" cy="158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浙江省大学英语</a:t>
            </a:r>
            <a:r>
              <a:rPr b="1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三级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2638-D0ED-4C74-8321-82AFC827823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0560" y="1773360"/>
            <a:ext cx="129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484280"/>
            <a:ext cx="2017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形格局来编排，注意每排人数。如图所示，准考证号码为单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准考证号码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62064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考场座位编排及分卷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28000" y="65977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010-12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95AFE-2C26-408C-932A-9174E6A5D9F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66960" y="1836360"/>
            <a:ext cx="25444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2492280"/>
            <a:ext cx="2664000" cy="936720"/>
          </a:xfrm>
          <a:prstGeom prst="wedgeRoundRectCallout">
            <a:avLst>
              <a:gd name="adj1" fmla="val 49703"/>
              <a:gd name="adj2" fmla="val 3406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 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4221000"/>
            <a:ext cx="2665440" cy="936720"/>
          </a:xfrm>
          <a:prstGeom prst="wedgeRoundRectCallout">
            <a:avLst>
              <a:gd name="adj1" fmla="val 14324"/>
              <a:gd name="adj2" fmla="val -132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答题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涂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2492280"/>
            <a:ext cx="2665440" cy="1079640"/>
          </a:xfrm>
          <a:prstGeom prst="wedgeRoundRectCallout">
            <a:avLst>
              <a:gd name="adj1" fmla="val -50893"/>
              <a:gd name="adj2" fmla="val 2779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443640" y="4581360"/>
            <a:ext cx="2556000" cy="1968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7D218-19CF-4AD4-B90F-ADA67827AD3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7560" y="351000"/>
            <a:ext cx="77011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67A1E-7588-4CBE-B1BB-C2170DAB2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518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级考试监考流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1700280"/>
            <a:ext cx="403236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试卷一，试卷二，答题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证件号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1773360"/>
            <a:ext cx="24494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始答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3502080"/>
            <a:ext cx="446400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试卷一，试卷二，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4869000"/>
            <a:ext cx="7418520" cy="129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卷和答题卡，严禁折叠答题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生手机务必上交，违者作弊处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2060640"/>
            <a:ext cx="649440" cy="503280"/>
          </a:xfrm>
          <a:prstGeom prst="rightArrow">
            <a:avLst>
              <a:gd name="adj1" fmla="val 50000"/>
              <a:gd name="adj2" fmla="val 322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5400000">
            <a:off x="6516000" y="2850840"/>
            <a:ext cx="4316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048A3-F3A7-4649-98C3-D09AEB12001C}" type="slidenum">
              <a:t>20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836640"/>
            <a:ext cx="332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提醒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764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生中途不得交卷退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考考生的答题卡准考证栏，试题册的得分栏内填写“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缺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字样，并填涂准考证号码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位要填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考员按小号在上，大号在下的顺序整理答题卡和试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/>
          </p:cNvPr>
          <p:cNvSpPr/>
          <p:nvPr/>
        </p:nvSpPr>
        <p:spPr>
          <a:xfrm>
            <a:off x="179280" y="5373720"/>
            <a:ext cx="7632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详细见浙江省大学英语三级监考员操作规程（纸质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23200" y="4511520"/>
            <a:ext cx="1541520" cy="2013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BE0BD-ACCF-4426-8867-8607457EA5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403280" y="2492280"/>
            <a:ext cx="605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图书馆听力接收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听力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试与省考试院互联互通，全程监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549360"/>
            <a:ext cx="4032360" cy="194472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特别提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E084D-3C1E-4DF7-9BA2-4D6247A3FCF4}" type="slidenum">
              <a:t>2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015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年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2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月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CE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务工作内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教育部考试中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015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年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2AFCD-A09E-4EE5-8743-6886A31384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484000" y="2225520"/>
            <a:ext cx="525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题型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试材料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场操作规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异常情况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关于宣传工作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476360" y="11937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内     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A9917-B3A4-4B96-A82D-084C351C2B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912600" y="117936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题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826920" y="1755720"/>
          <a:ext cx="7705800" cy="4032360"/>
        </p:xfrm>
        <a:graphic>
          <a:graphicData uri="http://schemas.openxmlformats.org/drawingml/2006/table">
            <a:tbl>
              <a:tblPr/>
              <a:tblGrid>
                <a:gridCol w="1079640"/>
                <a:gridCol w="1682640"/>
                <a:gridCol w="1683000"/>
                <a:gridCol w="1682640"/>
                <a:gridCol w="690480"/>
                <a:gridCol w="88740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听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词及词组听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汉译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A64EA-F86D-4A23-8429-D603910783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3"/>
          <p:cNvSpPr/>
          <p:nvPr/>
        </p:nvSpPr>
        <p:spPr>
          <a:xfrm>
            <a:off x="1001160" y="90792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考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900000" y="1527840"/>
            <a:ext cx="784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CET4/CET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00/15:0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开始，开始下发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10/15:1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生开始作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11:25/17:25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1D339-4DB6-429F-A739-23878E2631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3"/>
          <p:cNvSpPr/>
          <p:nvPr/>
        </p:nvSpPr>
        <p:spPr>
          <a:xfrm>
            <a:off x="1196280" y="692280"/>
            <a:ext cx="3957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2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试材料说明（以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CET4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为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87372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5" descr="试题册正面_201312.jpg"/>
          <p:cNvPicPr/>
          <p:nvPr/>
        </p:nvPicPr>
        <p:blipFill>
          <a:blip r:embed="rId1"/>
          <a:stretch/>
        </p:blipFill>
        <p:spPr>
          <a:xfrm>
            <a:off x="2411280" y="1413000"/>
            <a:ext cx="4105440" cy="51847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39640" y="20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所有题目均在试题册上，试题册上不得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8"/>
          <p:cNvSpPr/>
          <p:nvPr/>
        </p:nvSpPr>
        <p:spPr>
          <a:xfrm rot="20332800">
            <a:off x="5033880" y="2601720"/>
            <a:ext cx="10828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线形标注 1 10"/>
          <p:cNvSpPr/>
          <p:nvPr/>
        </p:nvSpPr>
        <p:spPr>
          <a:xfrm>
            <a:off x="2843280" y="3500280"/>
            <a:ext cx="3529080" cy="2953080"/>
          </a:xfrm>
          <a:prstGeom prst="borderCallout1">
            <a:avLst>
              <a:gd name="adj1" fmla="val 18750"/>
              <a:gd name="adj2" fmla="val -8333"/>
              <a:gd name="adj3" fmla="val 62944"/>
              <a:gd name="adj4" fmla="val -435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线形标注 2 18"/>
          <p:cNvSpPr/>
          <p:nvPr/>
        </p:nvSpPr>
        <p:spPr>
          <a:xfrm>
            <a:off x="2760840" y="3500280"/>
            <a:ext cx="3600360" cy="295308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30333"/>
              <a:gd name="adj6" fmla="val 99314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6804000" y="4581360"/>
            <a:ext cx="2052720" cy="131364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敬告考生，考生在填写（涂）个人信息并粘贴条形码前须仔细阅读</a:t>
            </a:r>
            <a:r>
              <a:rPr b="1" lang="en-US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,</a:t>
            </a: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并按要求完成相关内容</a:t>
            </a: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等腰三角形 18"/>
          <p:cNvSpPr/>
          <p:nvPr/>
        </p:nvSpPr>
        <p:spPr>
          <a:xfrm>
            <a:off x="179280" y="2060640"/>
            <a:ext cx="42408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DDD28-FEDA-4538-9504-91ABA2BDB7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内容占位符 2"/>
          <p:cNvSpPr/>
          <p:nvPr/>
        </p:nvSpPr>
        <p:spPr>
          <a:xfrm>
            <a:off x="68436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敬告考生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911160" y="2043000"/>
            <a:ext cx="7416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  <a:ea typeface="宋体"/>
              </a:rPr>
              <a:t> </a:t>
            </a: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一．在答题前，请认真完成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检查试题册背面条形码粘贴条、答题卡的印刷质量，如有问题及时向监考员反应，确认无误后完成以下两点要求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将试题册背面条形码粘贴条揭下后粘贴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的条形码粘贴框内，并将姓名和准考证号填写在试题册背面相应位置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指定位置用黑色签字笔填写准考证号、姓名和学校名称，并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将对应准考证号的信息点涂黑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二．在考试过程中，请注意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所有题目必须在答题卡上作答，在试题册上的作答一律无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规定时间内依次完成作文、听力、阅读、翻译各部分考试，作答作文期间不得翻阅该试题册。听力录音播放完毕后，请立即停止作答，监考员将立即回收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得到监考员指令后方可继续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作文题内容印在试题册背面，作文题及其他主观题必须用黑色签字笔在答题卡指定区域内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．选择题均为单选题，错选、不选或多选将不得分，作答时必须使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在答题卡上相应位置填涂，修改时须用橡皮擦净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三．以下情况按违规处理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E606F-C57B-4058-A412-0CF7ABC3D8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441000" y="76500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17"/>
          <p:cNvSpPr/>
          <p:nvPr/>
        </p:nvSpPr>
        <p:spPr>
          <a:xfrm>
            <a:off x="3059280" y="1484280"/>
            <a:ext cx="28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19"/>
          <p:cNvSpPr/>
          <p:nvPr/>
        </p:nvSpPr>
        <p:spPr>
          <a:xfrm>
            <a:off x="3132000" y="1844640"/>
            <a:ext cx="27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21"/>
          <p:cNvSpPr/>
          <p:nvPr/>
        </p:nvSpPr>
        <p:spPr>
          <a:xfrm>
            <a:off x="3059280" y="2133720"/>
            <a:ext cx="165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图片 7" descr="试题册背面_201312_培训.jpg"/>
          <p:cNvPicPr/>
          <p:nvPr/>
        </p:nvPicPr>
        <p:blipFill>
          <a:blip r:embed="rId1"/>
          <a:stretch/>
        </p:blipFill>
        <p:spPr>
          <a:xfrm>
            <a:off x="1692360" y="907920"/>
            <a:ext cx="4883040" cy="5699160"/>
          </a:xfrm>
          <a:prstGeom prst="rect">
            <a:avLst/>
          </a:prstGeom>
          <a:ln w="0">
            <a:noFill/>
          </a:ln>
        </p:spPr>
      </p:pic>
      <p:sp>
        <p:nvSpPr>
          <p:cNvPr id="414" name="矩形 6"/>
          <p:cNvSpPr/>
          <p:nvPr/>
        </p:nvSpPr>
        <p:spPr>
          <a:xfrm rot="20889000">
            <a:off x="5036760" y="2671560"/>
            <a:ext cx="108252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线形标注 2 14"/>
          <p:cNvSpPr/>
          <p:nvPr/>
        </p:nvSpPr>
        <p:spPr>
          <a:xfrm>
            <a:off x="1692360" y="1123920"/>
            <a:ext cx="5040360" cy="2809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1684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5"/>
          <p:cNvSpPr/>
          <p:nvPr/>
        </p:nvSpPr>
        <p:spPr>
          <a:xfrm>
            <a:off x="0" y="21319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题目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25"/>
          <p:cNvSpPr/>
          <p:nvPr/>
        </p:nvSpPr>
        <p:spPr>
          <a:xfrm>
            <a:off x="2484360" y="150804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直接箭头连接符 33"/>
          <p:cNvCxnSpPr/>
          <p:nvPr/>
        </p:nvCxnSpPr>
        <p:spPr>
          <a:xfrm>
            <a:off x="4068360" y="1484280"/>
            <a:ext cx="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9" name="TextBox 15"/>
          <p:cNvSpPr/>
          <p:nvPr/>
        </p:nvSpPr>
        <p:spPr>
          <a:xfrm>
            <a:off x="2135160" y="1771560"/>
            <a:ext cx="424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提示考生作文作答时间为半小时，之后将立即进行听力考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线形标注 2 16"/>
          <p:cNvSpPr/>
          <p:nvPr/>
        </p:nvSpPr>
        <p:spPr>
          <a:xfrm>
            <a:off x="1692360" y="4292640"/>
            <a:ext cx="3456000" cy="2017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7314"/>
              <a:gd name="adj6" fmla="val -25601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7"/>
          <p:cNvSpPr/>
          <p:nvPr/>
        </p:nvSpPr>
        <p:spPr>
          <a:xfrm>
            <a:off x="0" y="5086440"/>
            <a:ext cx="165564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个人信息填涂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线形标注 2 18"/>
          <p:cNvSpPr/>
          <p:nvPr/>
        </p:nvSpPr>
        <p:spPr>
          <a:xfrm>
            <a:off x="5327640" y="4365720"/>
            <a:ext cx="973080" cy="187164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9"/>
          <p:cNvSpPr/>
          <p:nvPr/>
        </p:nvSpPr>
        <p:spPr>
          <a:xfrm>
            <a:off x="6732720" y="5589720"/>
            <a:ext cx="17287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直接箭头连接符 46"/>
          <p:cNvCxnSpPr/>
          <p:nvPr/>
        </p:nvCxnSpPr>
        <p:spPr>
          <a:xfrm>
            <a:off x="7956360" y="2347560"/>
            <a:ext cx="108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5" name="TextBox 15"/>
          <p:cNvSpPr/>
          <p:nvPr/>
        </p:nvSpPr>
        <p:spPr>
          <a:xfrm>
            <a:off x="7021440" y="2637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条形码粘贴条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875640" y="1268280"/>
            <a:ext cx="208908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8B780-7C70-4EAD-9AAA-6083348C30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7200" y="379440"/>
            <a:ext cx="74264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2015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月大学外语等级考试概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934920"/>
          <a:ext cx="7775640" cy="5662800"/>
        </p:xfrm>
        <a:graphic>
          <a:graphicData uri="http://schemas.openxmlformats.org/drawingml/2006/table">
            <a:tbl>
              <a:tblPr/>
              <a:tblGrid>
                <a:gridCol w="720720"/>
                <a:gridCol w="1004760"/>
                <a:gridCol w="866880"/>
                <a:gridCol w="1152360"/>
                <a:gridCol w="1150920"/>
                <a:gridCol w="1079640"/>
                <a:gridCol w="1008000"/>
                <a:gridCol w="792360"/>
              </a:tblGrid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语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生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试题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答题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卷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5:00-17: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32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43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6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78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48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2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77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187280" y="342900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6637F-CA15-4B3A-9E9F-A455C6A771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3"/>
          <p:cNvSpPr/>
          <p:nvPr/>
        </p:nvSpPr>
        <p:spPr>
          <a:xfrm>
            <a:off x="39564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作文题与听力题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2700360" y="620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430" name="线形标注 2 14"/>
          <p:cNvSpPr/>
          <p:nvPr/>
        </p:nvSpPr>
        <p:spPr>
          <a:xfrm>
            <a:off x="3708360" y="1484280"/>
            <a:ext cx="1224000" cy="6494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98388"/>
              <a:gd name="adj6" fmla="val 280888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164360" y="21337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8"/>
          <p:cNvSpPr/>
          <p:nvPr/>
        </p:nvSpPr>
        <p:spPr>
          <a:xfrm rot="20332800">
            <a:off x="4181400" y="3752640"/>
            <a:ext cx="1081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线形标注 2 14"/>
          <p:cNvSpPr/>
          <p:nvPr/>
        </p:nvSpPr>
        <p:spPr>
          <a:xfrm>
            <a:off x="2700360" y="2565360"/>
            <a:ext cx="4103640" cy="338472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5"/>
          <p:cNvSpPr/>
          <p:nvPr/>
        </p:nvSpPr>
        <p:spPr>
          <a:xfrm>
            <a:off x="7380360" y="4869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直接箭头连接符 13"/>
          <p:cNvCxnSpPr/>
          <p:nvPr/>
        </p:nvCxnSpPr>
        <p:spPr>
          <a:xfrm flipH="1">
            <a:off x="1331280" y="2349360"/>
            <a:ext cx="1369080" cy="165672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36" name="矩形 15"/>
          <p:cNvSpPr/>
          <p:nvPr/>
        </p:nvSpPr>
        <p:spPr>
          <a:xfrm>
            <a:off x="32400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再次提示考生作文作答时间为半小时，之后立即进行听力考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等腰三角形 18"/>
          <p:cNvSpPr/>
          <p:nvPr/>
        </p:nvSpPr>
        <p:spPr>
          <a:xfrm>
            <a:off x="179280" y="1413000"/>
            <a:ext cx="424080" cy="576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58D4F-FAAC-4CC8-BE9B-BB42695401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113360" cy="5832360"/>
          </a:xfrm>
          <a:prstGeom prst="rect">
            <a:avLst/>
          </a:prstGeom>
          <a:ln w="0">
            <a:noFill/>
          </a:ln>
        </p:spPr>
      </p:pic>
      <p:sp>
        <p:nvSpPr>
          <p:cNvPr id="440" name="矩形 6"/>
          <p:cNvSpPr/>
          <p:nvPr/>
        </p:nvSpPr>
        <p:spPr>
          <a:xfrm rot="20332800">
            <a:off x="418140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线形标注 2 14"/>
          <p:cNvSpPr/>
          <p:nvPr/>
        </p:nvSpPr>
        <p:spPr>
          <a:xfrm>
            <a:off x="2700360" y="1197000"/>
            <a:ext cx="4103640" cy="2448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5"/>
          <p:cNvSpPr/>
          <p:nvPr/>
        </p:nvSpPr>
        <p:spPr>
          <a:xfrm>
            <a:off x="7308720" y="285264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线形标注 2 14"/>
          <p:cNvSpPr/>
          <p:nvPr/>
        </p:nvSpPr>
        <p:spPr>
          <a:xfrm>
            <a:off x="2700360" y="4005360"/>
            <a:ext cx="4103640" cy="2376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5"/>
          <p:cNvSpPr/>
          <p:nvPr/>
        </p:nvSpPr>
        <p:spPr>
          <a:xfrm>
            <a:off x="7236000" y="5661000"/>
            <a:ext cx="16189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直接箭头连接符 12"/>
          <p:cNvCxnSpPr/>
          <p:nvPr/>
        </p:nvCxnSpPr>
        <p:spPr>
          <a:xfrm flipH="1" flipV="1">
            <a:off x="1618920" y="3284280"/>
            <a:ext cx="1224720" cy="50544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46" name="矩形 14"/>
          <p:cNvSpPr/>
          <p:nvPr/>
        </p:nvSpPr>
        <p:spPr>
          <a:xfrm>
            <a:off x="324000" y="2421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听力录音播放完毕后，监考教师将立即回收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2F23F-4821-4435-9A80-D30CB9CE2B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11" descr="2013L090-大学英语4级卡2_页面_1_after.jpg"/>
          <p:cNvPicPr/>
          <p:nvPr/>
        </p:nvPicPr>
        <p:blipFill>
          <a:blip r:embed="rId1"/>
          <a:stretch/>
        </p:blipFill>
        <p:spPr>
          <a:xfrm>
            <a:off x="2484360" y="692280"/>
            <a:ext cx="3902040" cy="5599080"/>
          </a:xfrm>
          <a:prstGeom prst="rect">
            <a:avLst/>
          </a:prstGeom>
          <a:ln w="0">
            <a:noFill/>
          </a:ln>
        </p:spPr>
      </p:pic>
      <p:sp>
        <p:nvSpPr>
          <p:cNvPr id="449" name="矩形 8"/>
          <p:cNvSpPr/>
          <p:nvPr/>
        </p:nvSpPr>
        <p:spPr>
          <a:xfrm rot="20332800">
            <a:off x="4973760" y="3104640"/>
            <a:ext cx="1081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阅读和翻译题目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线形标注 2 14"/>
          <p:cNvSpPr/>
          <p:nvPr/>
        </p:nvSpPr>
        <p:spPr>
          <a:xfrm>
            <a:off x="2627280" y="2421000"/>
            <a:ext cx="3600360" cy="3384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5"/>
          <p:cNvSpPr/>
          <p:nvPr/>
        </p:nvSpPr>
        <p:spPr>
          <a:xfrm>
            <a:off x="6804000" y="472428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阅读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等腰三角形 18"/>
          <p:cNvSpPr/>
          <p:nvPr/>
        </p:nvSpPr>
        <p:spPr>
          <a:xfrm>
            <a:off x="216000" y="1341360"/>
            <a:ext cx="42372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4"/>
          <p:cNvSpPr/>
          <p:nvPr/>
        </p:nvSpPr>
        <p:spPr>
          <a:xfrm>
            <a:off x="324000" y="292428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在得到监考员指令后，方可在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进行作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607E0-A8EE-4E72-BC49-AF65F27008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2486160" y="504720"/>
            <a:ext cx="4171680" cy="5848560"/>
          </a:xfrm>
          <a:prstGeom prst="rect">
            <a:avLst/>
          </a:prstGeom>
          <a:ln w="0">
            <a:noFill/>
          </a:ln>
        </p:spPr>
      </p:pic>
      <p:sp>
        <p:nvSpPr>
          <p:cNvPr id="457" name="矩形 6"/>
          <p:cNvSpPr/>
          <p:nvPr/>
        </p:nvSpPr>
        <p:spPr>
          <a:xfrm rot="20332800">
            <a:off x="403704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线形标注 2 14"/>
          <p:cNvSpPr/>
          <p:nvPr/>
        </p:nvSpPr>
        <p:spPr>
          <a:xfrm>
            <a:off x="2411280" y="1125360"/>
            <a:ext cx="4392720" cy="4896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59814"/>
              <a:gd name="adj6" fmla="val 13716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5"/>
          <p:cNvSpPr/>
          <p:nvPr/>
        </p:nvSpPr>
        <p:spPr>
          <a:xfrm>
            <a:off x="7380360" y="4076640"/>
            <a:ext cx="143964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翻译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0C560-B846-496C-B683-7479B949BD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3"/>
          <p:cNvSpPr/>
          <p:nvPr/>
        </p:nvSpPr>
        <p:spPr>
          <a:xfrm>
            <a:off x="790200" y="83664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3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场操作规程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"/>
          <p:cNvSpPr/>
          <p:nvPr/>
        </p:nvSpPr>
        <p:spPr>
          <a:xfrm>
            <a:off x="574920" y="134136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8:45/14:4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5"/>
          <p:cNvSpPr/>
          <p:nvPr/>
        </p:nvSpPr>
        <p:spPr>
          <a:xfrm>
            <a:off x="971640" y="1844640"/>
            <a:ext cx="8172360" cy="27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入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出示身份证、学生证、准考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证件、禁止考生携带违禁物品进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13599-8EC9-4D9D-BDFD-08ABE83233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3"/>
          <p:cNvSpPr/>
          <p:nvPr/>
        </p:nvSpPr>
        <p:spPr>
          <a:xfrm>
            <a:off x="646560" y="81900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9:00/15:0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>
            <a:off x="826920" y="1265400"/>
            <a:ext cx="78868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下发考试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发试题册、答题卡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答题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阅读试题册正面“敬告考生”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检查试题册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指导考生粘贴条形码及填写个人信息情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阅读敬告考生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条形码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粘贴条形码、填写个人信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非听力考试期间考生不得佩戴耳机且不得提前翻     试题册，否则按违规处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等腰三角形 18"/>
          <p:cNvSpPr/>
          <p:nvPr/>
        </p:nvSpPr>
        <p:spPr>
          <a:xfrm>
            <a:off x="1042920" y="6021360"/>
            <a:ext cx="424080" cy="574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"/>
          <p:cNvSpPr/>
          <p:nvPr/>
        </p:nvSpPr>
        <p:spPr>
          <a:xfrm>
            <a:off x="1619280" y="6129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中宋"/>
                <a:ea typeface="华文中宋"/>
              </a:rPr>
              <a:t>禁止迟到考生入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DF7A7-BF06-43B0-AC63-729706812F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468360" y="2276640"/>
            <a:ext cx="1022400" cy="9363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7"/>
          <p:cNvSpPr/>
          <p:nvPr/>
        </p:nvSpPr>
        <p:spPr>
          <a:xfrm>
            <a:off x="468360" y="3429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8"/>
          <p:cNvSpPr/>
          <p:nvPr/>
        </p:nvSpPr>
        <p:spPr>
          <a:xfrm>
            <a:off x="2195640" y="1736640"/>
            <a:ext cx="72072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试题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9"/>
          <p:cNvSpPr/>
          <p:nvPr/>
        </p:nvSpPr>
        <p:spPr>
          <a:xfrm>
            <a:off x="2195640" y="2817720"/>
            <a:ext cx="72072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2195640" y="3968640"/>
            <a:ext cx="72072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4572000" y="2421000"/>
            <a:ext cx="1023840" cy="888840"/>
          </a:xfrm>
          <a:prstGeom prst="rect">
            <a:avLst/>
          </a:prstGeom>
          <a:ln w="0">
            <a:noFill/>
          </a:ln>
        </p:spPr>
      </p:pic>
      <p:sp>
        <p:nvSpPr>
          <p:cNvPr id="473" name="TextBox 12"/>
          <p:cNvSpPr/>
          <p:nvPr/>
        </p:nvSpPr>
        <p:spPr>
          <a:xfrm>
            <a:off x="4643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直接箭头连接符 14"/>
          <p:cNvCxnSpPr>
            <a:stCxn id="469" idx="3"/>
          </p:cNvCxnSpPr>
          <p:nvPr/>
        </p:nvCxnSpPr>
        <p:spPr>
          <a:xfrm>
            <a:off x="2916000" y="2060280"/>
            <a:ext cx="1656360" cy="432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75" name="直接箭头连接符 16"/>
          <p:cNvCxnSpPr>
            <a:stCxn id="470" idx="3"/>
          </p:cNvCxnSpPr>
          <p:nvPr/>
        </p:nvCxnSpPr>
        <p:spPr>
          <a:xfrm flipV="1">
            <a:off x="2916000" y="2923920"/>
            <a:ext cx="1585080" cy="218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76" name="直接箭头连接符 19"/>
          <p:cNvCxnSpPr/>
          <p:nvPr/>
        </p:nvCxnSpPr>
        <p:spPr>
          <a:xfrm flipV="1">
            <a:off x="2916000" y="3283920"/>
            <a:ext cx="1585080" cy="93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77" name="TextBox 24"/>
          <p:cNvSpPr/>
          <p:nvPr/>
        </p:nvSpPr>
        <p:spPr>
          <a:xfrm>
            <a:off x="6300720" y="2133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阅读试题册正面的敬告考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按要求填写（涂）试题册背面、答题卡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的个人信息，并粘贴条形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右箭头 25"/>
          <p:cNvSpPr/>
          <p:nvPr/>
        </p:nvSpPr>
        <p:spPr>
          <a:xfrm>
            <a:off x="5580000" y="278136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95E70-F968-4512-A882-6D8591356C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480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2303640" y="981000"/>
            <a:ext cx="65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填写（涂）答题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及试题册背面的准考证号和姓名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211640" y="1628640"/>
            <a:ext cx="4740120" cy="1871640"/>
          </a:xfrm>
          <a:prstGeom prst="rect">
            <a:avLst/>
          </a:prstGeom>
          <a:ln w="0">
            <a:noFill/>
          </a:ln>
        </p:spPr>
      </p:pic>
      <p:sp>
        <p:nvSpPr>
          <p:cNvPr id="483" name="TextBox 30"/>
          <p:cNvSpPr/>
          <p:nvPr/>
        </p:nvSpPr>
        <p:spPr>
          <a:xfrm>
            <a:off x="664848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2"/>
          <p:cNvSpPr/>
          <p:nvPr/>
        </p:nvSpPr>
        <p:spPr>
          <a:xfrm>
            <a:off x="6767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3"/>
          <p:cNvSpPr/>
          <p:nvPr/>
        </p:nvSpPr>
        <p:spPr>
          <a:xfrm>
            <a:off x="689616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4"/>
          <p:cNvSpPr/>
          <p:nvPr/>
        </p:nvSpPr>
        <p:spPr>
          <a:xfrm>
            <a:off x="702936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35"/>
          <p:cNvSpPr/>
          <p:nvPr/>
        </p:nvSpPr>
        <p:spPr>
          <a:xfrm>
            <a:off x="71485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36"/>
          <p:cNvSpPr/>
          <p:nvPr/>
        </p:nvSpPr>
        <p:spPr>
          <a:xfrm>
            <a:off x="73087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7"/>
          <p:cNvSpPr/>
          <p:nvPr/>
        </p:nvSpPr>
        <p:spPr>
          <a:xfrm>
            <a:off x="7440480" y="22557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8"/>
          <p:cNvSpPr/>
          <p:nvPr/>
        </p:nvSpPr>
        <p:spPr>
          <a:xfrm>
            <a:off x="7566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9"/>
          <p:cNvSpPr/>
          <p:nvPr/>
        </p:nvSpPr>
        <p:spPr>
          <a:xfrm>
            <a:off x="7688160" y="22543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40"/>
          <p:cNvSpPr/>
          <p:nvPr/>
        </p:nvSpPr>
        <p:spPr>
          <a:xfrm>
            <a:off x="783756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41"/>
          <p:cNvSpPr/>
          <p:nvPr/>
        </p:nvSpPr>
        <p:spPr>
          <a:xfrm>
            <a:off x="7964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2"/>
          <p:cNvSpPr/>
          <p:nvPr/>
        </p:nvSpPr>
        <p:spPr>
          <a:xfrm>
            <a:off x="810108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3"/>
          <p:cNvSpPr/>
          <p:nvPr/>
        </p:nvSpPr>
        <p:spPr>
          <a:xfrm>
            <a:off x="8220240" y="225432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4"/>
          <p:cNvSpPr/>
          <p:nvPr/>
        </p:nvSpPr>
        <p:spPr>
          <a:xfrm>
            <a:off x="8358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5"/>
          <p:cNvSpPr/>
          <p:nvPr/>
        </p:nvSpPr>
        <p:spPr>
          <a:xfrm>
            <a:off x="8483760" y="225576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7"/>
          <p:cNvSpPr/>
          <p:nvPr/>
        </p:nvSpPr>
        <p:spPr>
          <a:xfrm>
            <a:off x="4500720" y="2205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8"/>
          <p:cNvSpPr/>
          <p:nvPr/>
        </p:nvSpPr>
        <p:spPr>
          <a:xfrm>
            <a:off x="4572000" y="2565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4211640" y="4005360"/>
            <a:ext cx="4753080" cy="195264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0"/>
          <p:cNvSpPr/>
          <p:nvPr/>
        </p:nvSpPr>
        <p:spPr>
          <a:xfrm>
            <a:off x="665496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51"/>
          <p:cNvSpPr/>
          <p:nvPr/>
        </p:nvSpPr>
        <p:spPr>
          <a:xfrm>
            <a:off x="6773760" y="4619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52"/>
          <p:cNvSpPr/>
          <p:nvPr/>
        </p:nvSpPr>
        <p:spPr>
          <a:xfrm>
            <a:off x="6900840" y="46274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53"/>
          <p:cNvSpPr/>
          <p:nvPr/>
        </p:nvSpPr>
        <p:spPr>
          <a:xfrm>
            <a:off x="703404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4"/>
          <p:cNvSpPr/>
          <p:nvPr/>
        </p:nvSpPr>
        <p:spPr>
          <a:xfrm>
            <a:off x="715320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55"/>
          <p:cNvSpPr/>
          <p:nvPr/>
        </p:nvSpPr>
        <p:spPr>
          <a:xfrm>
            <a:off x="7313760" y="4619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6"/>
          <p:cNvSpPr/>
          <p:nvPr/>
        </p:nvSpPr>
        <p:spPr>
          <a:xfrm>
            <a:off x="7446960" y="46134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7"/>
          <p:cNvSpPr/>
          <p:nvPr/>
        </p:nvSpPr>
        <p:spPr>
          <a:xfrm>
            <a:off x="7572240" y="4616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8"/>
          <p:cNvSpPr/>
          <p:nvPr/>
        </p:nvSpPr>
        <p:spPr>
          <a:xfrm>
            <a:off x="7693200" y="4616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9"/>
          <p:cNvSpPr/>
          <p:nvPr/>
        </p:nvSpPr>
        <p:spPr>
          <a:xfrm>
            <a:off x="7843680" y="4622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0"/>
          <p:cNvSpPr/>
          <p:nvPr/>
        </p:nvSpPr>
        <p:spPr>
          <a:xfrm>
            <a:off x="7970760" y="46245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61"/>
          <p:cNvSpPr/>
          <p:nvPr/>
        </p:nvSpPr>
        <p:spPr>
          <a:xfrm>
            <a:off x="8105760" y="4621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2"/>
          <p:cNvSpPr/>
          <p:nvPr/>
        </p:nvSpPr>
        <p:spPr>
          <a:xfrm>
            <a:off x="822492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63"/>
          <p:cNvSpPr/>
          <p:nvPr/>
        </p:nvSpPr>
        <p:spPr>
          <a:xfrm>
            <a:off x="836280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64"/>
          <p:cNvSpPr/>
          <p:nvPr/>
        </p:nvSpPr>
        <p:spPr>
          <a:xfrm>
            <a:off x="848844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5"/>
          <p:cNvSpPr/>
          <p:nvPr/>
        </p:nvSpPr>
        <p:spPr>
          <a:xfrm>
            <a:off x="4788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66"/>
          <p:cNvSpPr/>
          <p:nvPr/>
        </p:nvSpPr>
        <p:spPr>
          <a:xfrm>
            <a:off x="4788000" y="54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67"/>
          <p:cNvSpPr/>
          <p:nvPr/>
        </p:nvSpPr>
        <p:spPr>
          <a:xfrm>
            <a:off x="6710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68"/>
          <p:cNvSpPr/>
          <p:nvPr/>
        </p:nvSpPr>
        <p:spPr>
          <a:xfrm>
            <a:off x="6845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69"/>
          <p:cNvSpPr/>
          <p:nvPr/>
        </p:nvSpPr>
        <p:spPr>
          <a:xfrm>
            <a:off x="6980400" y="48402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70"/>
          <p:cNvSpPr/>
          <p:nvPr/>
        </p:nvSpPr>
        <p:spPr>
          <a:xfrm>
            <a:off x="71136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1"/>
          <p:cNvSpPr/>
          <p:nvPr/>
        </p:nvSpPr>
        <p:spPr>
          <a:xfrm>
            <a:off x="725472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72"/>
          <p:cNvSpPr/>
          <p:nvPr/>
        </p:nvSpPr>
        <p:spPr>
          <a:xfrm>
            <a:off x="7381800" y="48387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3"/>
          <p:cNvSpPr/>
          <p:nvPr/>
        </p:nvSpPr>
        <p:spPr>
          <a:xfrm>
            <a:off x="7507440" y="49356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74"/>
          <p:cNvSpPr/>
          <p:nvPr/>
        </p:nvSpPr>
        <p:spPr>
          <a:xfrm>
            <a:off x="7643880" y="515160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75"/>
          <p:cNvSpPr/>
          <p:nvPr/>
        </p:nvSpPr>
        <p:spPr>
          <a:xfrm>
            <a:off x="7765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76"/>
          <p:cNvSpPr/>
          <p:nvPr/>
        </p:nvSpPr>
        <p:spPr>
          <a:xfrm>
            <a:off x="7900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77"/>
          <p:cNvSpPr/>
          <p:nvPr/>
        </p:nvSpPr>
        <p:spPr>
          <a:xfrm>
            <a:off x="8045280" y="483552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78"/>
          <p:cNvSpPr/>
          <p:nvPr/>
        </p:nvSpPr>
        <p:spPr>
          <a:xfrm>
            <a:off x="817416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9"/>
          <p:cNvSpPr/>
          <p:nvPr/>
        </p:nvSpPr>
        <p:spPr>
          <a:xfrm>
            <a:off x="830592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80"/>
          <p:cNvSpPr/>
          <p:nvPr/>
        </p:nvSpPr>
        <p:spPr>
          <a:xfrm>
            <a:off x="843768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81"/>
          <p:cNvSpPr/>
          <p:nvPr/>
        </p:nvSpPr>
        <p:spPr>
          <a:xfrm>
            <a:off x="8564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67"/>
          <p:cNvSpPr/>
          <p:nvPr/>
        </p:nvSpPr>
        <p:spPr>
          <a:xfrm>
            <a:off x="6680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8"/>
          <p:cNvSpPr/>
          <p:nvPr/>
        </p:nvSpPr>
        <p:spPr>
          <a:xfrm>
            <a:off x="6815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69"/>
          <p:cNvSpPr/>
          <p:nvPr/>
        </p:nvSpPr>
        <p:spPr>
          <a:xfrm>
            <a:off x="6950160" y="247032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70"/>
          <p:cNvSpPr/>
          <p:nvPr/>
        </p:nvSpPr>
        <p:spPr>
          <a:xfrm>
            <a:off x="70833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71"/>
          <p:cNvSpPr/>
          <p:nvPr/>
        </p:nvSpPr>
        <p:spPr>
          <a:xfrm>
            <a:off x="722484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72"/>
          <p:cNvSpPr/>
          <p:nvPr/>
        </p:nvSpPr>
        <p:spPr>
          <a:xfrm>
            <a:off x="7351560" y="246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73"/>
          <p:cNvSpPr/>
          <p:nvPr/>
        </p:nvSpPr>
        <p:spPr>
          <a:xfrm>
            <a:off x="747720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74"/>
          <p:cNvSpPr/>
          <p:nvPr/>
        </p:nvSpPr>
        <p:spPr>
          <a:xfrm>
            <a:off x="7613640" y="2781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5"/>
          <p:cNvSpPr/>
          <p:nvPr/>
        </p:nvSpPr>
        <p:spPr>
          <a:xfrm>
            <a:off x="7740720" y="2654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76"/>
          <p:cNvSpPr/>
          <p:nvPr/>
        </p:nvSpPr>
        <p:spPr>
          <a:xfrm>
            <a:off x="7875720" y="265428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7"/>
          <p:cNvSpPr/>
          <p:nvPr/>
        </p:nvSpPr>
        <p:spPr>
          <a:xfrm>
            <a:off x="8015400" y="2465280"/>
            <a:ext cx="1094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8"/>
          <p:cNvSpPr/>
          <p:nvPr/>
        </p:nvSpPr>
        <p:spPr>
          <a:xfrm>
            <a:off x="81439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9"/>
          <p:cNvSpPr/>
          <p:nvPr/>
        </p:nvSpPr>
        <p:spPr>
          <a:xfrm>
            <a:off x="827568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80"/>
          <p:cNvSpPr/>
          <p:nvPr/>
        </p:nvSpPr>
        <p:spPr>
          <a:xfrm>
            <a:off x="840744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81"/>
          <p:cNvSpPr/>
          <p:nvPr/>
        </p:nvSpPr>
        <p:spPr>
          <a:xfrm>
            <a:off x="85345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72" descr="试题册背面_201312_培训_人名.jpg"/>
          <p:cNvPicPr/>
          <p:nvPr/>
        </p:nvPicPr>
        <p:blipFill>
          <a:blip r:embed="rId4"/>
          <a:stretch/>
        </p:blipFill>
        <p:spPr>
          <a:xfrm>
            <a:off x="324000" y="1700280"/>
            <a:ext cx="371448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19C67-6040-4F31-B69E-20607A35C2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7"/>
          <p:cNvSpPr/>
          <p:nvPr/>
        </p:nvSpPr>
        <p:spPr>
          <a:xfrm>
            <a:off x="2124000" y="98100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将试题册背面条形码粘贴条粘贴至答题卡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条形码粘贴框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140360" y="3068640"/>
            <a:ext cx="4740120" cy="1873080"/>
          </a:xfrm>
          <a:prstGeom prst="rect">
            <a:avLst/>
          </a:prstGeom>
          <a:ln w="0">
            <a:noFill/>
          </a:ln>
        </p:spPr>
      </p:pic>
      <p:sp>
        <p:nvSpPr>
          <p:cNvPr id="553" name="TextBox 30"/>
          <p:cNvSpPr/>
          <p:nvPr/>
        </p:nvSpPr>
        <p:spPr>
          <a:xfrm>
            <a:off x="657684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2"/>
          <p:cNvSpPr/>
          <p:nvPr/>
        </p:nvSpPr>
        <p:spPr>
          <a:xfrm>
            <a:off x="6696000" y="36878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33"/>
          <p:cNvSpPr/>
          <p:nvPr/>
        </p:nvSpPr>
        <p:spPr>
          <a:xfrm>
            <a:off x="6823080" y="369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4"/>
          <p:cNvSpPr/>
          <p:nvPr/>
        </p:nvSpPr>
        <p:spPr>
          <a:xfrm>
            <a:off x="695628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5"/>
          <p:cNvSpPr/>
          <p:nvPr/>
        </p:nvSpPr>
        <p:spPr>
          <a:xfrm>
            <a:off x="707544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6"/>
          <p:cNvSpPr/>
          <p:nvPr/>
        </p:nvSpPr>
        <p:spPr>
          <a:xfrm>
            <a:off x="7236000" y="36860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7"/>
          <p:cNvSpPr/>
          <p:nvPr/>
        </p:nvSpPr>
        <p:spPr>
          <a:xfrm>
            <a:off x="7369200" y="36813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8"/>
          <p:cNvSpPr/>
          <p:nvPr/>
        </p:nvSpPr>
        <p:spPr>
          <a:xfrm>
            <a:off x="7494480" y="36831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9"/>
          <p:cNvSpPr/>
          <p:nvPr/>
        </p:nvSpPr>
        <p:spPr>
          <a:xfrm>
            <a:off x="7615080" y="36846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0"/>
          <p:cNvSpPr/>
          <p:nvPr/>
        </p:nvSpPr>
        <p:spPr>
          <a:xfrm>
            <a:off x="7765920" y="3689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41"/>
          <p:cNvSpPr/>
          <p:nvPr/>
        </p:nvSpPr>
        <p:spPr>
          <a:xfrm>
            <a:off x="789300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2"/>
          <p:cNvSpPr/>
          <p:nvPr/>
        </p:nvSpPr>
        <p:spPr>
          <a:xfrm>
            <a:off x="8028000" y="3689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43"/>
          <p:cNvSpPr/>
          <p:nvPr/>
        </p:nvSpPr>
        <p:spPr>
          <a:xfrm>
            <a:off x="814716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44"/>
          <p:cNvSpPr/>
          <p:nvPr/>
        </p:nvSpPr>
        <p:spPr>
          <a:xfrm>
            <a:off x="828684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5"/>
          <p:cNvSpPr/>
          <p:nvPr/>
        </p:nvSpPr>
        <p:spPr>
          <a:xfrm>
            <a:off x="841068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7"/>
          <p:cNvSpPr/>
          <p:nvPr/>
        </p:nvSpPr>
        <p:spPr>
          <a:xfrm>
            <a:off x="4427640" y="36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8"/>
          <p:cNvSpPr/>
          <p:nvPr/>
        </p:nvSpPr>
        <p:spPr>
          <a:xfrm>
            <a:off x="4500720" y="40053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" descr="C:\Users\Administrator\AppData\Roaming\Tencent\Users\58445695\QQ\WinTemp\RichOle\J1VBFOKA@D3$1]SA{[7`7IQ.jpg"/>
          <p:cNvPicPr/>
          <p:nvPr/>
        </p:nvPicPr>
        <p:blipFill>
          <a:blip r:embed="rId3"/>
          <a:stretch/>
        </p:blipFill>
        <p:spPr>
          <a:xfrm>
            <a:off x="4140360" y="1557360"/>
            <a:ext cx="1361880" cy="1343160"/>
          </a:xfrm>
          <a:prstGeom prst="rect">
            <a:avLst/>
          </a:prstGeom>
          <a:ln w="0">
            <a:noFill/>
          </a:ln>
        </p:spPr>
      </p:pic>
      <p:sp>
        <p:nvSpPr>
          <p:cNvPr id="571" name="TextBox 84"/>
          <p:cNvSpPr/>
          <p:nvPr/>
        </p:nvSpPr>
        <p:spPr>
          <a:xfrm>
            <a:off x="4427640" y="5300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完成后将试题册背面向上放回桌子左上角，不得提前翻阅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26" descr="试题册背面_201312_培训_人名.jpg"/>
          <p:cNvPicPr/>
          <p:nvPr/>
        </p:nvPicPr>
        <p:blipFill>
          <a:blip r:embed="rId4"/>
          <a:stretch/>
        </p:blipFill>
        <p:spPr>
          <a:xfrm>
            <a:off x="179280" y="1700280"/>
            <a:ext cx="3838680" cy="4465440"/>
          </a:xfrm>
          <a:prstGeom prst="rect">
            <a:avLst/>
          </a:prstGeom>
          <a:ln w="0">
            <a:noFill/>
          </a:ln>
        </p:spPr>
      </p:pic>
      <p:sp>
        <p:nvSpPr>
          <p:cNvPr id="573" name="线形标注 2 14"/>
          <p:cNvSpPr/>
          <p:nvPr/>
        </p:nvSpPr>
        <p:spPr>
          <a:xfrm>
            <a:off x="2843280" y="4797360"/>
            <a:ext cx="1009440" cy="8636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-20486"/>
              <a:gd name="adj6" fmla="val 288273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7"/>
          <p:cNvSpPr/>
          <p:nvPr/>
        </p:nvSpPr>
        <p:spPr>
          <a:xfrm>
            <a:off x="6616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8"/>
          <p:cNvSpPr/>
          <p:nvPr/>
        </p:nvSpPr>
        <p:spPr>
          <a:xfrm>
            <a:off x="6751800" y="400536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9"/>
          <p:cNvSpPr/>
          <p:nvPr/>
        </p:nvSpPr>
        <p:spPr>
          <a:xfrm>
            <a:off x="6886440" y="39099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70"/>
          <p:cNvSpPr/>
          <p:nvPr/>
        </p:nvSpPr>
        <p:spPr>
          <a:xfrm>
            <a:off x="70200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71"/>
          <p:cNvSpPr/>
          <p:nvPr/>
        </p:nvSpPr>
        <p:spPr>
          <a:xfrm>
            <a:off x="716112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72"/>
          <p:cNvSpPr/>
          <p:nvPr/>
        </p:nvSpPr>
        <p:spPr>
          <a:xfrm>
            <a:off x="7288200" y="390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73"/>
          <p:cNvSpPr/>
          <p:nvPr/>
        </p:nvSpPr>
        <p:spPr>
          <a:xfrm>
            <a:off x="741348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74"/>
          <p:cNvSpPr/>
          <p:nvPr/>
        </p:nvSpPr>
        <p:spPr>
          <a:xfrm>
            <a:off x="7550280" y="42210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5"/>
          <p:cNvSpPr/>
          <p:nvPr/>
        </p:nvSpPr>
        <p:spPr>
          <a:xfrm>
            <a:off x="7672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6"/>
          <p:cNvSpPr/>
          <p:nvPr/>
        </p:nvSpPr>
        <p:spPr>
          <a:xfrm>
            <a:off x="7807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77"/>
          <p:cNvSpPr/>
          <p:nvPr/>
        </p:nvSpPr>
        <p:spPr>
          <a:xfrm>
            <a:off x="7951680" y="390528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78"/>
          <p:cNvSpPr/>
          <p:nvPr/>
        </p:nvSpPr>
        <p:spPr>
          <a:xfrm>
            <a:off x="80802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9"/>
          <p:cNvSpPr/>
          <p:nvPr/>
        </p:nvSpPr>
        <p:spPr>
          <a:xfrm>
            <a:off x="8211960" y="38988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80"/>
          <p:cNvSpPr/>
          <p:nvPr/>
        </p:nvSpPr>
        <p:spPr>
          <a:xfrm>
            <a:off x="8344080" y="38988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81"/>
          <p:cNvSpPr/>
          <p:nvPr/>
        </p:nvSpPr>
        <p:spPr>
          <a:xfrm>
            <a:off x="8470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7EE92-7A2D-4D66-863B-E99D47250C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3"/>
          <p:cNvSpPr/>
          <p:nvPr/>
        </p:nvSpPr>
        <p:spPr>
          <a:xfrm>
            <a:off x="395280" y="1125360"/>
            <a:ext cx="831528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10/15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正式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粘贴条形码及填写个人信息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始作答作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作文题目在试题册背面，使用黑色签字笔在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作答，期间不得打开试题册。作文题考试时间为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，之后将立即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0" name="肘形连接符 5"/>
          <p:cNvCxnSpPr/>
          <p:nvPr/>
        </p:nvCxnSpPr>
        <p:spPr>
          <a:xfrm flipV="1" rot="16200000">
            <a:off x="6876000" y="1484280"/>
            <a:ext cx="1008720" cy="721440"/>
          </a:xfrm>
          <a:prstGeom prst="bentConnector3">
            <a:avLst>
              <a:gd name="adj1" fmla="val 49982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591" name="TextBox 7"/>
          <p:cNvSpPr/>
          <p:nvPr/>
        </p:nvSpPr>
        <p:spPr>
          <a:xfrm>
            <a:off x="5580000" y="83664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一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4"/>
          <p:cNvSpPr/>
          <p:nvPr/>
        </p:nvSpPr>
        <p:spPr>
          <a:xfrm>
            <a:off x="395280" y="4869000"/>
            <a:ext cx="831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35/15:3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后结束写作考试，并开始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630A2-8BFC-4B33-B3A0-BBD2F8A50F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indefinite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试时间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四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9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上午，六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9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下午，三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上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监考班车时间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小和山校区周六、周日上午按学校正常班车，周六中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3: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学院路发车，走古荡线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7:5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走古荡线和文一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安吉校区周六上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5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小和山线西和食堂西门、留和路北口；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4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文一路线走学院路东大门、翠苑等，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2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校区返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点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（根据考场位置到相应的领卷点领取试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16c0f"/>
                </a:solidFill>
                <a:latin typeface="Arial"/>
              </a:rPr>
              <a:t>小和山校区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A2-240</a:t>
            </a:r>
            <a:r>
              <a:rPr b="1" lang="zh-CN" sz="2100" spc="-1" strike="noStrike">
                <a:solidFill>
                  <a:srgbClr val="c16c0f"/>
                </a:solidFill>
                <a:latin typeface="Arial"/>
              </a:rPr>
              <a:t>（主考办公室）、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B4-10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16c0f"/>
                </a:solidFill>
                <a:latin typeface="Arial"/>
              </a:rPr>
              <a:t>安吉校区领卷点：</a:t>
            </a:r>
            <a:r>
              <a:rPr b="1" lang="en-US" sz="2100" spc="-1" strike="noStrike">
                <a:solidFill>
                  <a:srgbClr val="c16c0f"/>
                </a:solidFill>
                <a:latin typeface="Arial"/>
              </a:rPr>
              <a:t>20#-101</a:t>
            </a:r>
            <a:r>
              <a:rPr b="1" lang="zh-CN" sz="2100" spc="-1" strike="noStrike">
                <a:solidFill>
                  <a:srgbClr val="c16c0f"/>
                </a:solidFill>
                <a:latin typeface="Arial"/>
              </a:rPr>
              <a:t>（阶梯教室）（主考办公室）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时间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上午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00(</a:t>
            </a: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安吉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8:15</a:t>
            </a: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下午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14</a:t>
            </a: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布置考场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前完成考场布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1990B-2848-4252-B878-02B78ACEED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2"/>
          <p:cNvSpPr/>
          <p:nvPr/>
        </p:nvSpPr>
        <p:spPr>
          <a:xfrm>
            <a:off x="539640" y="1484280"/>
            <a:ext cx="8136000" cy="24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40/15:4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进行听力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命令考生打开试题册，带上耳机，播放听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正式开始，请考生打开试题册并带上耳机，听力录音播放完毕后，将立即回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6E696-BE2D-4D0D-878D-887772F1C3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3"/>
          <p:cNvSpPr/>
          <p:nvPr/>
        </p:nvSpPr>
        <p:spPr>
          <a:xfrm>
            <a:off x="395280" y="105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考试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七角星 4"/>
          <p:cNvSpPr/>
          <p:nvPr/>
        </p:nvSpPr>
        <p:spPr>
          <a:xfrm>
            <a:off x="468360" y="1052640"/>
            <a:ext cx="431640" cy="431640"/>
          </a:xfrm>
          <a:custGeom>
            <a:avLst/>
            <a:gdLst>
              <a:gd name="textAreaLeft" fmla="*/ 96120 w 431640"/>
              <a:gd name="textAreaRight" fmla="*/ 335520 w 431640"/>
              <a:gd name="textAreaTop" fmla="*/ 85320 h 431640"/>
              <a:gd name="textAreaBottom" fmla="*/ 325080 h 431640"/>
            </a:gdLst>
            <a:ahLst/>
            <a:rect l="textAreaLeft" t="textAreaTop" r="textAreaRight" b="textAreaBottom"/>
            <a:pathLst>
              <a:path w="431800" h="431800">
                <a:moveTo>
                  <a:pt x="-1" y="277693"/>
                </a:moveTo>
                <a:lnTo>
                  <a:pt x="66492" y="192170"/>
                </a:lnTo>
                <a:lnTo>
                  <a:pt x="42761" y="85524"/>
                </a:lnTo>
                <a:lnTo>
                  <a:pt x="149408" y="85524"/>
                </a:lnTo>
                <a:lnTo>
                  <a:pt x="215900" y="0"/>
                </a:lnTo>
                <a:lnTo>
                  <a:pt x="282392" y="85524"/>
                </a:lnTo>
                <a:lnTo>
                  <a:pt x="389039" y="85524"/>
                </a:lnTo>
                <a:lnTo>
                  <a:pt x="365308" y="192170"/>
                </a:lnTo>
                <a:lnTo>
                  <a:pt x="431801" y="277693"/>
                </a:lnTo>
                <a:lnTo>
                  <a:pt x="335715" y="325156"/>
                </a:lnTo>
                <a:lnTo>
                  <a:pt x="311984" y="431802"/>
                </a:lnTo>
                <a:lnTo>
                  <a:pt x="215900" y="384340"/>
                </a:lnTo>
                <a:lnTo>
                  <a:pt x="119816" y="431802"/>
                </a:lnTo>
                <a:lnTo>
                  <a:pt x="96085" y="325156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755640" y="17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考试时间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听力磁带为单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播放时间中已包含考生作答时间，听力播放完毕后，监考教师回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考生须暂停作答，等待指令后方可作答下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中，正式内容开始前提示语为“听力考试现在开始”，正式内容结束的提示语为“力考试结束，现在由监考员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请考生等待开始作答下一部分试题的指令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6"/>
          <p:cNvSpPr/>
          <p:nvPr/>
        </p:nvSpPr>
        <p:spPr>
          <a:xfrm>
            <a:off x="905040" y="501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采用无线广播方式的考点须采取相关措施提示监考教师录音结束</a:t>
            </a:r>
            <a:r>
              <a:rPr b="1" lang="en-US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等腰三角形 18"/>
          <p:cNvSpPr/>
          <p:nvPr/>
        </p:nvSpPr>
        <p:spPr>
          <a:xfrm>
            <a:off x="468360" y="4941720"/>
            <a:ext cx="42228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8F335-4058-4675-9806-F5C2C08966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2"/>
          <p:cNvSpPr/>
          <p:nvPr/>
        </p:nvSpPr>
        <p:spPr>
          <a:xfrm>
            <a:off x="539640" y="1052640"/>
            <a:ext cx="8317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0/16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听力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要求考生停止作答，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4"/>
          <p:cNvSpPr/>
          <p:nvPr/>
        </p:nvSpPr>
        <p:spPr>
          <a:xfrm>
            <a:off x="539640" y="3213000"/>
            <a:ext cx="83170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5/16:1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命令考生继续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考生继续作答阅读理解和翻译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检查考生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信息填写和条形码粘贴情况，记录缺考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肘形连接符 5"/>
          <p:cNvCxnSpPr/>
          <p:nvPr/>
        </p:nvCxnSpPr>
        <p:spPr>
          <a:xfrm flipH="1" rot="16200000">
            <a:off x="3035880" y="525132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02" name="TextBox 12"/>
          <p:cNvSpPr/>
          <p:nvPr/>
        </p:nvSpPr>
        <p:spPr>
          <a:xfrm>
            <a:off x="3203640" y="5877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二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F85F3-AB4E-4F47-9128-B9AD061F3EF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6"/>
          <p:cNvSpPr/>
          <p:nvPr/>
        </p:nvSpPr>
        <p:spPr>
          <a:xfrm>
            <a:off x="684360" y="836640"/>
            <a:ext cx="34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缺考考生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324000" y="1628640"/>
            <a:ext cx="1022040" cy="9367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5"/>
          <p:cNvSpPr/>
          <p:nvPr/>
        </p:nvSpPr>
        <p:spPr>
          <a:xfrm>
            <a:off x="320364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填写（涂）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1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、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2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以及试题册背面姓名和准考证号后两位，条形码无需揭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25092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1692360" y="1844640"/>
            <a:ext cx="3960720" cy="17161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1692360" y="3933720"/>
            <a:ext cx="3960720" cy="17989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6"/>
          <p:cNvSpPr/>
          <p:nvPr/>
        </p:nvSpPr>
        <p:spPr>
          <a:xfrm>
            <a:off x="5146560" y="24210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7"/>
          <p:cNvSpPr/>
          <p:nvPr/>
        </p:nvSpPr>
        <p:spPr>
          <a:xfrm>
            <a:off x="5238720" y="24210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38"/>
          <p:cNvSpPr/>
          <p:nvPr/>
        </p:nvSpPr>
        <p:spPr>
          <a:xfrm>
            <a:off x="5210280" y="270828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39"/>
          <p:cNvSpPr/>
          <p:nvPr/>
        </p:nvSpPr>
        <p:spPr>
          <a:xfrm>
            <a:off x="5313240" y="2708280"/>
            <a:ext cx="7956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40"/>
          <p:cNvSpPr/>
          <p:nvPr/>
        </p:nvSpPr>
        <p:spPr>
          <a:xfrm>
            <a:off x="1945800" y="236376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41"/>
          <p:cNvSpPr/>
          <p:nvPr/>
        </p:nvSpPr>
        <p:spPr>
          <a:xfrm>
            <a:off x="2050920" y="270828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42"/>
          <p:cNvSpPr/>
          <p:nvPr/>
        </p:nvSpPr>
        <p:spPr>
          <a:xfrm>
            <a:off x="522288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43"/>
          <p:cNvSpPr/>
          <p:nvPr/>
        </p:nvSpPr>
        <p:spPr>
          <a:xfrm>
            <a:off x="532620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44"/>
          <p:cNvSpPr/>
          <p:nvPr/>
        </p:nvSpPr>
        <p:spPr>
          <a:xfrm>
            <a:off x="5165640" y="450864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5"/>
          <p:cNvSpPr/>
          <p:nvPr/>
        </p:nvSpPr>
        <p:spPr>
          <a:xfrm>
            <a:off x="5268960" y="45086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6"/>
          <p:cNvSpPr/>
          <p:nvPr/>
        </p:nvSpPr>
        <p:spPr>
          <a:xfrm>
            <a:off x="2120400" y="472608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7"/>
          <p:cNvSpPr/>
          <p:nvPr/>
        </p:nvSpPr>
        <p:spPr>
          <a:xfrm>
            <a:off x="2154240" y="521496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" descr="C:\Users\Administrator\AppData\Roaming\Tencent\Users\58445695\QQ\WinTemp\RichOle\Z8_[4V}%OQ%R7YA[]H5A$)R.jpg"/>
          <p:cNvPicPr/>
          <p:nvPr/>
        </p:nvPicPr>
        <p:blipFill>
          <a:blip r:embed="rId4"/>
          <a:stretch/>
        </p:blipFill>
        <p:spPr>
          <a:xfrm>
            <a:off x="5724360" y="2060640"/>
            <a:ext cx="3032280" cy="3502080"/>
          </a:xfrm>
          <a:prstGeom prst="rect">
            <a:avLst/>
          </a:prstGeom>
          <a:ln w="0">
            <a:noFill/>
          </a:ln>
        </p:spPr>
      </p:pic>
      <p:sp>
        <p:nvSpPr>
          <p:cNvPr id="622" name="矩形 48"/>
          <p:cNvSpPr/>
          <p:nvPr/>
        </p:nvSpPr>
        <p:spPr>
          <a:xfrm>
            <a:off x="6393600" y="31417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！！条形码无需揭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D4474-02AE-49E7-8B83-68ABEABE73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矩形 2"/>
          <p:cNvSpPr/>
          <p:nvPr/>
        </p:nvSpPr>
        <p:spPr>
          <a:xfrm>
            <a:off x="324000" y="1268280"/>
            <a:ext cx="831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15/17:1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：   提示考生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324000" y="2708280"/>
            <a:ext cx="83152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25/17:2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        生：   考生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 ：   回收试题册、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清点答题卡及试题册数量以及个人信息填写，条形码粘贴无误，方可让考生离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肘形连接符 5"/>
          <p:cNvCxnSpPr/>
          <p:nvPr/>
        </p:nvCxnSpPr>
        <p:spPr>
          <a:xfrm flipH="1" rot="16200000">
            <a:off x="5772600" y="474624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26" name="TextBox 12"/>
          <p:cNvSpPr/>
          <p:nvPr/>
        </p:nvSpPr>
        <p:spPr>
          <a:xfrm>
            <a:off x="4211640" y="5445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三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B3099-82E1-4E23-A90D-613AFF9939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矩形 9"/>
          <p:cNvSpPr/>
          <p:nvPr/>
        </p:nvSpPr>
        <p:spPr>
          <a:xfrm>
            <a:off x="736560" y="7650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4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异常情况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1"/>
          <p:cNvSpPr/>
          <p:nvPr/>
        </p:nvSpPr>
        <p:spPr>
          <a:xfrm>
            <a:off x="971640" y="1628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A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答题卡、试题册下发，可以作答前，考生填写（涂）个人信息，粘贴条形码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468360" y="148428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37347-B4ED-4AAA-886F-516B79B4385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没有条形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或条形码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圆角矩形 5"/>
          <p:cNvGrpSpPr/>
          <p:nvPr/>
        </p:nvGrpSpPr>
        <p:grpSpPr>
          <a:xfrm>
            <a:off x="549360" y="4095720"/>
            <a:ext cx="1700280" cy="1622520"/>
            <a:chOff x="549360" y="4095720"/>
            <a:chExt cx="1700280" cy="1622520"/>
          </a:xfrm>
        </p:grpSpPr>
        <p:pic>
          <p:nvPicPr>
            <p:cNvPr id="6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5493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8580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圆角矩形 6"/>
          <p:cNvGrpSpPr/>
          <p:nvPr/>
        </p:nvGrpSpPr>
        <p:grpSpPr>
          <a:xfrm>
            <a:off x="2736720" y="4095720"/>
            <a:ext cx="1702080" cy="1622520"/>
            <a:chOff x="2736720" y="4095720"/>
            <a:chExt cx="1702080" cy="1622520"/>
          </a:xfrm>
        </p:grpSpPr>
        <p:pic>
          <p:nvPicPr>
            <p:cNvPr id="635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736720" y="409572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287028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圆角矩形 7"/>
          <p:cNvGrpSpPr/>
          <p:nvPr/>
        </p:nvGrpSpPr>
        <p:grpSpPr>
          <a:xfrm>
            <a:off x="4919760" y="4095720"/>
            <a:ext cx="1700280" cy="1622520"/>
            <a:chOff x="4919760" y="4095720"/>
            <a:chExt cx="1700280" cy="1622520"/>
          </a:xfrm>
        </p:grpSpPr>
        <p:pic>
          <p:nvPicPr>
            <p:cNvPr id="638" name="圆角矩形 7" descr=""/>
            <p:cNvPicPr/>
            <p:nvPr/>
          </p:nvPicPr>
          <p:blipFill>
            <a:blip r:embed="rId3"/>
            <a:stretch/>
          </p:blipFill>
          <p:spPr>
            <a:xfrm>
              <a:off x="49197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054760" y="4208400"/>
              <a:ext cx="14349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圆角矩形 8"/>
          <p:cNvGrpSpPr/>
          <p:nvPr/>
        </p:nvGrpSpPr>
        <p:grpSpPr>
          <a:xfrm>
            <a:off x="7102440" y="4095720"/>
            <a:ext cx="1700280" cy="1622520"/>
            <a:chOff x="7102440" y="4095720"/>
            <a:chExt cx="1700280" cy="1622520"/>
          </a:xfrm>
        </p:grpSpPr>
        <p:pic>
          <p:nvPicPr>
            <p:cNvPr id="641" name="圆角矩形 8" descr=""/>
            <p:cNvPicPr/>
            <p:nvPr/>
          </p:nvPicPr>
          <p:blipFill>
            <a:blip r:embed="rId4"/>
            <a:stretch/>
          </p:blipFill>
          <p:spPr>
            <a:xfrm>
              <a:off x="710244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23744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Box 9"/>
          <p:cNvSpPr/>
          <p:nvPr/>
        </p:nvSpPr>
        <p:spPr>
          <a:xfrm>
            <a:off x="1028520" y="3557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0"/>
          <p:cNvSpPr/>
          <p:nvPr/>
        </p:nvSpPr>
        <p:spPr>
          <a:xfrm>
            <a:off x="3015360" y="3557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1"/>
          <p:cNvSpPr/>
          <p:nvPr/>
        </p:nvSpPr>
        <p:spPr>
          <a:xfrm>
            <a:off x="52556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2"/>
          <p:cNvSpPr/>
          <p:nvPr/>
        </p:nvSpPr>
        <p:spPr>
          <a:xfrm>
            <a:off x="74192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椭圆形标注 13"/>
          <p:cNvSpPr/>
          <p:nvPr/>
        </p:nvSpPr>
        <p:spPr>
          <a:xfrm rot="574800">
            <a:off x="3588840" y="1379520"/>
            <a:ext cx="5457960" cy="162576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省级承办机构汇总各考点该种情况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填写条形码异常情况汇总表，并提交给扫描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右箭头 14"/>
          <p:cNvGrpSpPr/>
          <p:nvPr/>
        </p:nvGrpSpPr>
        <p:grpSpPr>
          <a:xfrm>
            <a:off x="2152800" y="4595760"/>
            <a:ext cx="723600" cy="757440"/>
            <a:chOff x="2152800" y="4595760"/>
            <a:chExt cx="723600" cy="757440"/>
          </a:xfrm>
        </p:grpSpPr>
        <p:pic>
          <p:nvPicPr>
            <p:cNvPr id="649" name="右箭头 14" descr=""/>
            <p:cNvPicPr/>
            <p:nvPr/>
          </p:nvPicPr>
          <p:blipFill>
            <a:blip r:embed="rId5"/>
            <a:stretch/>
          </p:blipFill>
          <p:spPr>
            <a:xfrm>
              <a:off x="2152800" y="4595760"/>
              <a:ext cx="7236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2211480" y="47941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右箭头 15"/>
          <p:cNvGrpSpPr/>
          <p:nvPr/>
        </p:nvGrpSpPr>
        <p:grpSpPr>
          <a:xfrm>
            <a:off x="4322880" y="4595760"/>
            <a:ext cx="725400" cy="757440"/>
            <a:chOff x="4322880" y="4595760"/>
            <a:chExt cx="725400" cy="757440"/>
          </a:xfrm>
        </p:grpSpPr>
        <p:pic>
          <p:nvPicPr>
            <p:cNvPr id="652" name="右箭头 15" descr=""/>
            <p:cNvPicPr/>
            <p:nvPr/>
          </p:nvPicPr>
          <p:blipFill>
            <a:blip r:embed="rId6"/>
            <a:stretch/>
          </p:blipFill>
          <p:spPr>
            <a:xfrm>
              <a:off x="432288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4383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右箭头 16"/>
          <p:cNvGrpSpPr/>
          <p:nvPr/>
        </p:nvGrpSpPr>
        <p:grpSpPr>
          <a:xfrm>
            <a:off x="6529320" y="4595760"/>
            <a:ext cx="725400" cy="757440"/>
            <a:chOff x="6529320" y="4595760"/>
            <a:chExt cx="725400" cy="757440"/>
          </a:xfrm>
        </p:grpSpPr>
        <p:pic>
          <p:nvPicPr>
            <p:cNvPr id="655" name="右箭头 16" descr=""/>
            <p:cNvPicPr/>
            <p:nvPr/>
          </p:nvPicPr>
          <p:blipFill>
            <a:blip r:embed="rId7"/>
            <a:stretch/>
          </p:blipFill>
          <p:spPr>
            <a:xfrm>
              <a:off x="652932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588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TextBox 17"/>
          <p:cNvSpPr/>
          <p:nvPr/>
        </p:nvSpPr>
        <p:spPr>
          <a:xfrm>
            <a:off x="1908000" y="6021360"/>
            <a:ext cx="41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试题册装入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袋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等腰三角形 18"/>
          <p:cNvSpPr/>
          <p:nvPr/>
        </p:nvSpPr>
        <p:spPr>
          <a:xfrm>
            <a:off x="1116000" y="580536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D41DF-77B0-4204-9B0E-697C1CC0FA6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2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但不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形标注 5"/>
          <p:cNvSpPr/>
          <p:nvPr/>
        </p:nvSpPr>
        <p:spPr>
          <a:xfrm rot="1390200">
            <a:off x="4322520" y="1266840"/>
            <a:ext cx="4316400" cy="145080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琥珀"/>
                <a:ea typeface="华文琥珀"/>
              </a:rPr>
              <a:t>无须特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圆角矩形 6"/>
          <p:cNvGrpSpPr/>
          <p:nvPr/>
        </p:nvGrpSpPr>
        <p:grpSpPr>
          <a:xfrm>
            <a:off x="407880" y="3968640"/>
            <a:ext cx="1702080" cy="1621080"/>
            <a:chOff x="407880" y="3968640"/>
            <a:chExt cx="1702080" cy="1621080"/>
          </a:xfrm>
        </p:grpSpPr>
        <p:pic>
          <p:nvPicPr>
            <p:cNvPr id="662" name="圆角矩形 6" descr=""/>
            <p:cNvPicPr/>
            <p:nvPr/>
          </p:nvPicPr>
          <p:blipFill>
            <a:blip r:embed="rId1"/>
            <a:stretch/>
          </p:blipFill>
          <p:spPr>
            <a:xfrm>
              <a:off x="407880" y="3968640"/>
              <a:ext cx="1702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414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圆角矩形 7"/>
          <p:cNvGrpSpPr/>
          <p:nvPr/>
        </p:nvGrpSpPr>
        <p:grpSpPr>
          <a:xfrm>
            <a:off x="2590920" y="3968640"/>
            <a:ext cx="1699920" cy="1621080"/>
            <a:chOff x="2590920" y="3968640"/>
            <a:chExt cx="1699920" cy="1621080"/>
          </a:xfrm>
        </p:grpSpPr>
        <p:pic>
          <p:nvPicPr>
            <p:cNvPr id="665" name="圆角矩形 7" descr=""/>
            <p:cNvPicPr/>
            <p:nvPr/>
          </p:nvPicPr>
          <p:blipFill>
            <a:blip r:embed="rId2"/>
            <a:stretch/>
          </p:blipFill>
          <p:spPr>
            <a:xfrm>
              <a:off x="2590920" y="3968640"/>
              <a:ext cx="16999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272556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圆角矩形 8"/>
          <p:cNvGrpSpPr/>
          <p:nvPr/>
        </p:nvGrpSpPr>
        <p:grpSpPr>
          <a:xfrm>
            <a:off x="4773600" y="3968640"/>
            <a:ext cx="1700280" cy="1621080"/>
            <a:chOff x="4773600" y="3968640"/>
            <a:chExt cx="1700280" cy="1621080"/>
          </a:xfrm>
        </p:grpSpPr>
        <p:pic>
          <p:nvPicPr>
            <p:cNvPr id="668" name="圆角矩形 8" descr=""/>
            <p:cNvPicPr/>
            <p:nvPr/>
          </p:nvPicPr>
          <p:blipFill>
            <a:blip r:embed="rId3"/>
            <a:stretch/>
          </p:blipFill>
          <p:spPr>
            <a:xfrm>
              <a:off x="4773600" y="3968640"/>
              <a:ext cx="1700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49100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圆角矩形 9"/>
          <p:cNvGrpSpPr/>
          <p:nvPr/>
        </p:nvGrpSpPr>
        <p:grpSpPr>
          <a:xfrm>
            <a:off x="6961320" y="3968640"/>
            <a:ext cx="1695240" cy="1621080"/>
            <a:chOff x="6961320" y="3968640"/>
            <a:chExt cx="1695240" cy="1621080"/>
          </a:xfrm>
        </p:grpSpPr>
        <p:pic>
          <p:nvPicPr>
            <p:cNvPr id="671" name="圆角矩形 9" descr=""/>
            <p:cNvPicPr/>
            <p:nvPr/>
          </p:nvPicPr>
          <p:blipFill>
            <a:blip r:embed="rId4"/>
            <a:stretch/>
          </p:blipFill>
          <p:spPr>
            <a:xfrm>
              <a:off x="6961320" y="3968640"/>
              <a:ext cx="16952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709452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Box 10"/>
          <p:cNvSpPr/>
          <p:nvPr/>
        </p:nvSpPr>
        <p:spPr>
          <a:xfrm>
            <a:off x="883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1"/>
          <p:cNvSpPr/>
          <p:nvPr/>
        </p:nvSpPr>
        <p:spPr>
          <a:xfrm>
            <a:off x="287100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"/>
          <p:cNvSpPr/>
          <p:nvPr/>
        </p:nvSpPr>
        <p:spPr>
          <a:xfrm>
            <a:off x="51120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727488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右箭头 14"/>
          <p:cNvGrpSpPr/>
          <p:nvPr/>
        </p:nvGrpSpPr>
        <p:grpSpPr>
          <a:xfrm>
            <a:off x="2004840" y="4468680"/>
            <a:ext cx="725760" cy="755640"/>
            <a:chOff x="2004840" y="4468680"/>
            <a:chExt cx="725760" cy="755640"/>
          </a:xfrm>
        </p:grpSpPr>
        <p:pic>
          <p:nvPicPr>
            <p:cNvPr id="678" name="右箭头 14" descr=""/>
            <p:cNvPicPr/>
            <p:nvPr/>
          </p:nvPicPr>
          <p:blipFill>
            <a:blip r:embed="rId5"/>
            <a:stretch/>
          </p:blipFill>
          <p:spPr>
            <a:xfrm>
              <a:off x="2004840" y="446868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2066760" y="466560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右箭头 15"/>
          <p:cNvGrpSpPr/>
          <p:nvPr/>
        </p:nvGrpSpPr>
        <p:grpSpPr>
          <a:xfrm>
            <a:off x="4175280" y="4468680"/>
            <a:ext cx="731520" cy="755640"/>
            <a:chOff x="4175280" y="4468680"/>
            <a:chExt cx="731520" cy="755640"/>
          </a:xfrm>
        </p:grpSpPr>
        <p:pic>
          <p:nvPicPr>
            <p:cNvPr id="681" name="右箭头 15" descr=""/>
            <p:cNvPicPr/>
            <p:nvPr/>
          </p:nvPicPr>
          <p:blipFill>
            <a:blip r:embed="rId6"/>
            <a:stretch/>
          </p:blipFill>
          <p:spPr>
            <a:xfrm>
              <a:off x="4175280" y="446868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4238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右箭头 16"/>
          <p:cNvGrpSpPr/>
          <p:nvPr/>
        </p:nvGrpSpPr>
        <p:grpSpPr>
          <a:xfrm>
            <a:off x="6381720" y="4468680"/>
            <a:ext cx="731880" cy="755640"/>
            <a:chOff x="6381720" y="4468680"/>
            <a:chExt cx="731880" cy="755640"/>
          </a:xfrm>
        </p:grpSpPr>
        <p:pic>
          <p:nvPicPr>
            <p:cNvPr id="684" name="右箭头 16" descr=""/>
            <p:cNvPicPr/>
            <p:nvPr/>
          </p:nvPicPr>
          <p:blipFill>
            <a:blip r:embed="rId7"/>
            <a:stretch/>
          </p:blipFill>
          <p:spPr>
            <a:xfrm>
              <a:off x="6381720" y="4468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443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E8505-419F-4204-9D27-5C6955D06F3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云形标注 15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3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已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4067280" y="836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688" name="椭圆 19"/>
          <p:cNvSpPr/>
          <p:nvPr/>
        </p:nvSpPr>
        <p:spPr>
          <a:xfrm rot="379800">
            <a:off x="6551280" y="1655640"/>
            <a:ext cx="140796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21"/>
          <p:cNvSpPr/>
          <p:nvPr/>
        </p:nvSpPr>
        <p:spPr>
          <a:xfrm rot="21052200">
            <a:off x="5332320" y="4198680"/>
            <a:ext cx="1646280" cy="83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1B1DA-D858-43CF-8788-C9A93EE594C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圆角矩形 3"/>
          <p:cNvGrpSpPr/>
          <p:nvPr/>
        </p:nvGrpSpPr>
        <p:grpSpPr>
          <a:xfrm>
            <a:off x="407880" y="2670120"/>
            <a:ext cx="1702080" cy="1620720"/>
            <a:chOff x="407880" y="2670120"/>
            <a:chExt cx="1702080" cy="1620720"/>
          </a:xfrm>
        </p:grpSpPr>
        <p:pic>
          <p:nvPicPr>
            <p:cNvPr id="69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407880" y="267012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5414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圆角矩形 4"/>
          <p:cNvGrpSpPr/>
          <p:nvPr/>
        </p:nvGrpSpPr>
        <p:grpSpPr>
          <a:xfrm>
            <a:off x="2530440" y="2670120"/>
            <a:ext cx="1859040" cy="1620720"/>
            <a:chOff x="2530440" y="2670120"/>
            <a:chExt cx="1859040" cy="1620720"/>
          </a:xfrm>
        </p:grpSpPr>
        <p:pic>
          <p:nvPicPr>
            <p:cNvPr id="694" name="圆角矩形 4" descr=""/>
            <p:cNvPicPr/>
            <p:nvPr/>
          </p:nvPicPr>
          <p:blipFill>
            <a:blip r:embed="rId2"/>
            <a:stretch/>
          </p:blipFill>
          <p:spPr>
            <a:xfrm>
              <a:off x="2530440" y="267012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72556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圆角矩形 5"/>
          <p:cNvGrpSpPr/>
          <p:nvPr/>
        </p:nvGrpSpPr>
        <p:grpSpPr>
          <a:xfrm>
            <a:off x="4711680" y="2670120"/>
            <a:ext cx="1860480" cy="1620720"/>
            <a:chOff x="4711680" y="2670120"/>
            <a:chExt cx="1860480" cy="1620720"/>
          </a:xfrm>
        </p:grpSpPr>
        <p:pic>
          <p:nvPicPr>
            <p:cNvPr id="697" name="圆角矩形 5" descr=""/>
            <p:cNvPicPr/>
            <p:nvPr/>
          </p:nvPicPr>
          <p:blipFill>
            <a:blip r:embed="rId3"/>
            <a:stretch/>
          </p:blipFill>
          <p:spPr>
            <a:xfrm>
              <a:off x="4711680" y="267012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49100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圆角矩形 6"/>
          <p:cNvGrpSpPr/>
          <p:nvPr/>
        </p:nvGrpSpPr>
        <p:grpSpPr>
          <a:xfrm>
            <a:off x="6961320" y="2670120"/>
            <a:ext cx="1695240" cy="1620720"/>
            <a:chOff x="6961320" y="2670120"/>
            <a:chExt cx="1695240" cy="1620720"/>
          </a:xfrm>
        </p:grpSpPr>
        <p:pic>
          <p:nvPicPr>
            <p:cNvPr id="700" name="圆角矩形 6" descr=""/>
            <p:cNvPicPr/>
            <p:nvPr/>
          </p:nvPicPr>
          <p:blipFill>
            <a:blip r:embed="rId4"/>
            <a:stretch/>
          </p:blipFill>
          <p:spPr>
            <a:xfrm>
              <a:off x="6961320" y="2670120"/>
              <a:ext cx="16952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09452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TextBox 7"/>
          <p:cNvSpPr/>
          <p:nvPr/>
        </p:nvSpPr>
        <p:spPr>
          <a:xfrm>
            <a:off x="8838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287100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9"/>
          <p:cNvSpPr/>
          <p:nvPr/>
        </p:nvSpPr>
        <p:spPr>
          <a:xfrm>
            <a:off x="511200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0"/>
          <p:cNvSpPr/>
          <p:nvPr/>
        </p:nvSpPr>
        <p:spPr>
          <a:xfrm>
            <a:off x="727488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右箭头 11"/>
          <p:cNvGrpSpPr/>
          <p:nvPr/>
        </p:nvGrpSpPr>
        <p:grpSpPr>
          <a:xfrm>
            <a:off x="2004840" y="3170160"/>
            <a:ext cx="725760" cy="755640"/>
            <a:chOff x="2004840" y="3170160"/>
            <a:chExt cx="725760" cy="755640"/>
          </a:xfrm>
        </p:grpSpPr>
        <p:pic>
          <p:nvPicPr>
            <p:cNvPr id="707" name="右箭头 11" descr=""/>
            <p:cNvPicPr/>
            <p:nvPr/>
          </p:nvPicPr>
          <p:blipFill>
            <a:blip r:embed="rId5"/>
            <a:stretch/>
          </p:blipFill>
          <p:spPr>
            <a:xfrm>
              <a:off x="2004840" y="317016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2066760" y="33685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右箭头 12"/>
          <p:cNvGrpSpPr/>
          <p:nvPr/>
        </p:nvGrpSpPr>
        <p:grpSpPr>
          <a:xfrm>
            <a:off x="4175280" y="3170160"/>
            <a:ext cx="731520" cy="755640"/>
            <a:chOff x="4175280" y="3170160"/>
            <a:chExt cx="731520" cy="755640"/>
          </a:xfrm>
        </p:grpSpPr>
        <p:pic>
          <p:nvPicPr>
            <p:cNvPr id="710" name="右箭头 12" descr=""/>
            <p:cNvPicPr/>
            <p:nvPr/>
          </p:nvPicPr>
          <p:blipFill>
            <a:blip r:embed="rId6"/>
            <a:stretch/>
          </p:blipFill>
          <p:spPr>
            <a:xfrm>
              <a:off x="4175280" y="317016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238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右箭头 13"/>
          <p:cNvGrpSpPr/>
          <p:nvPr/>
        </p:nvGrpSpPr>
        <p:grpSpPr>
          <a:xfrm>
            <a:off x="6381720" y="3170160"/>
            <a:ext cx="731880" cy="755640"/>
            <a:chOff x="6381720" y="3170160"/>
            <a:chExt cx="731880" cy="755640"/>
          </a:xfrm>
        </p:grpSpPr>
        <p:pic>
          <p:nvPicPr>
            <p:cNvPr id="713" name="右箭头 13" descr=""/>
            <p:cNvPicPr/>
            <p:nvPr/>
          </p:nvPicPr>
          <p:blipFill>
            <a:blip r:embed="rId7"/>
            <a:stretch/>
          </p:blipFill>
          <p:spPr>
            <a:xfrm>
              <a:off x="6381720" y="317016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6443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等腰三角形 27"/>
          <p:cNvSpPr/>
          <p:nvPr/>
        </p:nvSpPr>
        <p:spPr>
          <a:xfrm>
            <a:off x="1116000" y="515772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28"/>
          <p:cNvSpPr/>
          <p:nvPr/>
        </p:nvSpPr>
        <p:spPr>
          <a:xfrm>
            <a:off x="1835280" y="5445000"/>
            <a:ext cx="62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试题册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7C88D-0833-4EB4-8368-C9F7778C999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六级考试铃声（一共五次铃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: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前准备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答题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: 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听力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试结束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7:25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考试时间统一以铃声为准，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铃声时对表，按照时间进度安排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751E2-A9D2-482C-A38C-AFBBC6BB26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4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未贴条码前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19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22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25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28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35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38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41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等腰三角形 16"/>
          <p:cNvSpPr/>
          <p:nvPr/>
        </p:nvSpPr>
        <p:spPr>
          <a:xfrm>
            <a:off x="900000" y="5229360"/>
            <a:ext cx="71928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7"/>
          <p:cNvSpPr/>
          <p:nvPr/>
        </p:nvSpPr>
        <p:spPr>
          <a:xfrm>
            <a:off x="1763640" y="551664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4FBDC-D476-4B8E-8BED-C0D7173D866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5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粘贴条码后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47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50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53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56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63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66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69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等腰三角形 16"/>
          <p:cNvSpPr/>
          <p:nvPr/>
        </p:nvSpPr>
        <p:spPr>
          <a:xfrm>
            <a:off x="826920" y="5373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17"/>
          <p:cNvSpPr/>
          <p:nvPr/>
        </p:nvSpPr>
        <p:spPr>
          <a:xfrm>
            <a:off x="1547640" y="558972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条形码在原有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考生在备用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85AB5-82B4-449B-8CFB-FF54025423E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4"/>
          <p:cNvSpPr/>
          <p:nvPr/>
        </p:nvSpPr>
        <p:spPr>
          <a:xfrm>
            <a:off x="900000" y="98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B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考生打开试题册，开始作答试题册上题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396720" y="83664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775" name="云形标注 6"/>
          <p:cNvSpPr/>
          <p:nvPr/>
        </p:nvSpPr>
        <p:spPr>
          <a:xfrm rot="21393000">
            <a:off x="396720" y="1506600"/>
            <a:ext cx="3851280" cy="148572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B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考生打开打开试题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且开始作答，试题册有印刷错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圆角矩形 7"/>
          <p:cNvGrpSpPr/>
          <p:nvPr/>
        </p:nvGrpSpPr>
        <p:grpSpPr>
          <a:xfrm>
            <a:off x="407880" y="3681360"/>
            <a:ext cx="1702080" cy="1622520"/>
            <a:chOff x="407880" y="3681360"/>
            <a:chExt cx="1702080" cy="1622520"/>
          </a:xfrm>
        </p:grpSpPr>
        <p:pic>
          <p:nvPicPr>
            <p:cNvPr id="777" name="圆角矩形 7" descr=""/>
            <p:cNvPicPr/>
            <p:nvPr/>
          </p:nvPicPr>
          <p:blipFill>
            <a:blip r:embed="rId2"/>
            <a:stretch/>
          </p:blipFill>
          <p:spPr>
            <a:xfrm>
              <a:off x="407880" y="368136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5414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圆角矩形 8"/>
          <p:cNvGrpSpPr/>
          <p:nvPr/>
        </p:nvGrpSpPr>
        <p:grpSpPr>
          <a:xfrm>
            <a:off x="2530440" y="3681360"/>
            <a:ext cx="1859040" cy="1622520"/>
            <a:chOff x="2530440" y="3681360"/>
            <a:chExt cx="1859040" cy="1622520"/>
          </a:xfrm>
        </p:grpSpPr>
        <p:pic>
          <p:nvPicPr>
            <p:cNvPr id="780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530440" y="3681360"/>
              <a:ext cx="18590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272556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圆角矩形 9"/>
          <p:cNvGrpSpPr/>
          <p:nvPr/>
        </p:nvGrpSpPr>
        <p:grpSpPr>
          <a:xfrm>
            <a:off x="4711680" y="3681360"/>
            <a:ext cx="1860480" cy="1622520"/>
            <a:chOff x="4711680" y="3681360"/>
            <a:chExt cx="1860480" cy="1622520"/>
          </a:xfrm>
        </p:grpSpPr>
        <p:pic>
          <p:nvPicPr>
            <p:cNvPr id="783" name="圆角矩形 9" descr=""/>
            <p:cNvPicPr/>
            <p:nvPr/>
          </p:nvPicPr>
          <p:blipFill>
            <a:blip r:embed="rId4"/>
            <a:stretch/>
          </p:blipFill>
          <p:spPr>
            <a:xfrm>
              <a:off x="4711680" y="3681360"/>
              <a:ext cx="18604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49100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圆角矩形 10"/>
          <p:cNvGrpSpPr/>
          <p:nvPr/>
        </p:nvGrpSpPr>
        <p:grpSpPr>
          <a:xfrm>
            <a:off x="6961320" y="3681360"/>
            <a:ext cx="1695240" cy="1622520"/>
            <a:chOff x="6961320" y="3681360"/>
            <a:chExt cx="1695240" cy="1622520"/>
          </a:xfrm>
        </p:grpSpPr>
        <p:pic>
          <p:nvPicPr>
            <p:cNvPr id="786" name="圆角矩形 10" descr=""/>
            <p:cNvPicPr/>
            <p:nvPr/>
          </p:nvPicPr>
          <p:blipFill>
            <a:blip r:embed="rId5"/>
            <a:stretch/>
          </p:blipFill>
          <p:spPr>
            <a:xfrm>
              <a:off x="6961320" y="3681360"/>
              <a:ext cx="16952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709452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TextBox 11"/>
          <p:cNvSpPr/>
          <p:nvPr/>
        </p:nvSpPr>
        <p:spPr>
          <a:xfrm>
            <a:off x="88380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"/>
          <p:cNvSpPr/>
          <p:nvPr/>
        </p:nvSpPr>
        <p:spPr>
          <a:xfrm>
            <a:off x="2871000" y="314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511200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4"/>
          <p:cNvSpPr/>
          <p:nvPr/>
        </p:nvSpPr>
        <p:spPr>
          <a:xfrm>
            <a:off x="727488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右箭头 15"/>
          <p:cNvGrpSpPr/>
          <p:nvPr/>
        </p:nvGrpSpPr>
        <p:grpSpPr>
          <a:xfrm>
            <a:off x="2004840" y="4175280"/>
            <a:ext cx="725760" cy="761760"/>
            <a:chOff x="2004840" y="4175280"/>
            <a:chExt cx="725760" cy="761760"/>
          </a:xfrm>
        </p:grpSpPr>
        <p:pic>
          <p:nvPicPr>
            <p:cNvPr id="793" name="右箭头 15" descr=""/>
            <p:cNvPicPr/>
            <p:nvPr/>
          </p:nvPicPr>
          <p:blipFill>
            <a:blip r:embed="rId6"/>
            <a:stretch/>
          </p:blipFill>
          <p:spPr>
            <a:xfrm>
              <a:off x="2004840" y="4175280"/>
              <a:ext cx="725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2066760" y="4376880"/>
              <a:ext cx="459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右箭头 16"/>
          <p:cNvGrpSpPr/>
          <p:nvPr/>
        </p:nvGrpSpPr>
        <p:grpSpPr>
          <a:xfrm>
            <a:off x="4175280" y="4175280"/>
            <a:ext cx="731520" cy="761760"/>
            <a:chOff x="4175280" y="4175280"/>
            <a:chExt cx="731520" cy="761760"/>
          </a:xfrm>
        </p:grpSpPr>
        <p:pic>
          <p:nvPicPr>
            <p:cNvPr id="796" name="右箭头 16" descr=""/>
            <p:cNvPicPr/>
            <p:nvPr/>
          </p:nvPicPr>
          <p:blipFill>
            <a:blip r:embed="rId7"/>
            <a:stretch/>
          </p:blipFill>
          <p:spPr>
            <a:xfrm>
              <a:off x="4175280" y="4175280"/>
              <a:ext cx="7315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4238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右箭头 17"/>
          <p:cNvGrpSpPr/>
          <p:nvPr/>
        </p:nvGrpSpPr>
        <p:grpSpPr>
          <a:xfrm>
            <a:off x="6381720" y="4175280"/>
            <a:ext cx="731880" cy="761760"/>
            <a:chOff x="6381720" y="4175280"/>
            <a:chExt cx="731880" cy="761760"/>
          </a:xfrm>
        </p:grpSpPr>
        <p:pic>
          <p:nvPicPr>
            <p:cNvPr id="799" name="右箭头 17" descr=""/>
            <p:cNvPicPr/>
            <p:nvPr/>
          </p:nvPicPr>
          <p:blipFill>
            <a:blip r:embed="rId8"/>
            <a:stretch/>
          </p:blipFill>
          <p:spPr>
            <a:xfrm>
              <a:off x="6381720" y="4175280"/>
              <a:ext cx="73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6443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等腰三角形 18"/>
          <p:cNvSpPr/>
          <p:nvPr/>
        </p:nvSpPr>
        <p:spPr>
          <a:xfrm>
            <a:off x="826920" y="5589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9"/>
          <p:cNvSpPr/>
          <p:nvPr/>
        </p:nvSpPr>
        <p:spPr>
          <a:xfrm>
            <a:off x="1403280" y="5805360"/>
            <a:ext cx="75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监考教师须在答题卡袋面上说明两套题目的有效作答范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09EBC-609F-4F45-87EE-54C14B5D0BC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5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关于宣传工作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本次听力考试时间为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钟，听力录音结束后，监考教师将立即回收答题卡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，请考生做好相关应考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向考生再次强调以下几种违规行为，即出现以下行为将按零分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8999D-05B0-496C-95BA-4D58A9B8413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Box 3"/>
          <p:cNvSpPr/>
          <p:nvPr/>
        </p:nvSpPr>
        <p:spPr>
          <a:xfrm>
            <a:off x="2195640" y="2781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示结束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7D0DC-7CC2-4CB5-82C1-B20B3AA68BF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领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上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0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（安吉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1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，下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，到考场所在的教学区设置的领卷点领卷报到领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每个考场的两位监考人员到齐后同时领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到达领卷点并签到才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小和山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区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区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安吉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试题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答题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务袋（内有：清单、监考证、考场号、考生名单、考场记录单、胶水、小刀、闹钟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回卷：试卷回到领卷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袋封上的考场号与自己的考场是否相符，检查袋口是否完好，并在袋上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485C-AE19-4D16-B2D7-B67772BA85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考场布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领卷后两位监考老师试卷直入考场开始布置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在考场门口贴好考场号（插在教室门口的塑料牌中或粘贴在墙面）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是否彻底清场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按照规定格式做好考场板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根据座位安排表在考试座位上方贴上座位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本次考试四六级，采用多题多卷，粘贴条形码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三级分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B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63C47-45A9-4B72-B989-EE1C416CFC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分铃响之后放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先检查核对证件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入场（证件不全不得入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先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把带入考场的无关物品（包、书本、纸张、计算器、手机并关机等）放到讲台上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入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检查准考证号是否与座位号相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检查准考证与学生证或身份证是否相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要求学生在考场座位核对表照片旁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发现问题及时纠正或报告主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试卷当众启封，请务必保管好封条，仅此一份，没有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宣布考场纪律及考试注意事项 （全文宣读考场规则和考生守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禁止迟到考生入场：上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后，下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后，禁止考生入场，如有异常，及时联系考务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F1611-1B4C-4ABC-9EC6-E16282BBD9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620640"/>
            <a:ext cx="85122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考试过程与浙江省考试院联网，全程监控，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严禁携带手机、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ipad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等通讯、上网、拍摄设备进入考场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要求带手表、闹钟（统一发）查看时间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（有过二例监考教师在考试中用手机发微博事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00(15:00)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发放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试题册，发试题册时要背面向上放到考生桌子左上角，并要求考生不得提前翻阅或改变试卷位置，否则按违规违纪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员甲提示考生仔细阅读试题册上的“敬告考生”，并指导考生将试题册背面上的条形码揭下后粘贴在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的条形码粘贴框内并填写（涂）试题册封底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上的学校名称、姓名及准考证号等信息。要求考生将相关信息填写完整后，将试题册背面向上放回至桌子左上角。提示考生试题册未按要求放置或提前翻阅试题册，均按违规处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正式开考后，监考教师要注意核验证件及检查考生填涂信息、粘贴条形码是否规范 。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0:10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）收答题卡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后，再次检查条形码情况，并填写好答题卡一的相关资料，等待考务人员来清点收取。（上次考试中四级有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位、六级有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位同学没有粘贴条形码，成绩为零的情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不得擅自动用缺考学生的试题册和答题卡。缺考答题卡不用贴条形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试全过程中考生不得中途交卷退场。如特殊情况学生要求上厕所，由监考教师陪同到厕所门口（人性化管理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62929-B75D-4277-AC25-2C1A0DD25B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5-12-07T00:29:22Z</dcterms:modified>
  <cp:revision>1668</cp:revision>
  <dc:subject/>
  <dc:title>jwc</dc:title>
</cp:coreProperties>
</file>